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51E-6FC7-4DA5-AF2D-C78E9556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0AC-4030-4BC8-8C3B-460D026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D1C-504A-41C4-B83B-1A6F577B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2DA-CF2C-4B8E-9FA4-B076CD2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457-1FB2-4014-A700-2D08E834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451A-123E-4570-BA6A-38F287B1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9797-863C-462D-9605-90DB591F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1A8-19FB-4D2A-AC1D-4389E8F1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6F67-3369-4F77-801E-4366A33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2C1-8F1B-41A2-AC60-FC8D741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9F80-4548-487A-AAA6-0631E405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3AB-5F86-4E55-A033-9546892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29E-65E5-412E-A53C-17508D6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DA0-C3A4-453A-961C-CFECAE6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6E9F-9E19-4CA9-9824-C149FDD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B65E-15E9-40BA-8085-A5EE186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E55-3D8F-4C39-A5A2-B081B775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8F15-8FBF-4BCF-8F58-A0FC5829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93EC-46A5-466D-B777-1C25B68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9A72-25DF-4DD5-8526-10756D36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C036-CFB2-4A68-8DC4-A53FD291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6CDA-8FF0-4033-B50C-8BC0F7B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FCF-37B8-4E71-BCE2-FD6254F2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574E-9D4B-458E-B1F4-AC6B866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01DC-4AC2-4779-A786-4315E3DE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EFC8-219F-49D7-92E4-720FCE5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5D3F-643A-4DCF-8C90-6476605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46EB-CF19-4AB9-972C-B5CA3439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E4C2-F62D-4CE9-811A-0048B18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B663-8FC0-4F52-AA43-543A8BA6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AE91-ACFC-4544-B2E2-5E396110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300D-5417-48AF-9DEE-F889AB3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BC46-3AA1-4400-B4BC-733E452F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FD6-1906-447F-8548-7F9A101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9017-CBB5-49FD-9FBB-9484FCC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5C48-2001-4AF5-AF94-B57F58A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8B7F-75B2-4CDA-98ED-77E9DBA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F57D-FAAF-420D-9C43-D6827B4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CB1A-5D1B-447D-BBB0-DC42BD4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8EAB-5DA0-49F3-A16E-0D27816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B9D6-D95A-4728-B470-44286358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79C3-9618-4BA5-AB75-1248707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B917-F8D2-47BA-9662-DCB7275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701B-4DED-43D1-956C-E39323EC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05A-C1AC-497A-AD85-94B55EB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2F59C-BAFC-45F8-9973-B4AE182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3762F-323C-463F-BB48-FBF0AEE3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9691-46AC-4CE5-84C6-0F7C3C63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B631-7710-4039-97B2-6A1BFA5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9EE4-2F5E-4636-B9D6-A90577F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2333-5D2D-4B66-A7C5-DD45BAB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96AD-3468-4BF0-868A-5117974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135E-DB98-422A-9887-89E9A32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727D-AB35-4FFF-9F77-F424E02F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948C-5627-4425-8575-04F9FFF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DAB-CF68-411F-952B-512AEBCD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6B29-9733-468C-A729-BCF3CA18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59DB-34A7-4FA3-BB01-BA8E4B3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12011-DFB5-4A25-AEA3-2F979C7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FA6F-BEF7-4916-B786-40A93A2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3C5E-70E7-418E-BD4F-F73E211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38A5-5C76-411E-B4A7-7CDFB15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E439-1BF0-4B7E-B8FE-1A8855AA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F7E8-BF3E-482B-9122-EBDB76B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E127-8A67-4938-871D-50514E0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DF9E-14AE-4C1F-8E44-8289DB9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958-5D5C-4221-BAC2-7B5B1DA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7A80-6F3D-4AE2-BB8C-9F86AD3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CD60-1A17-417F-9828-D0F471AB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92D8F-3A52-4791-A474-8CE60B1B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53150-0241-4CC6-9FBF-2018057F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AA1D-2381-478A-BADB-20FD3CF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B9B8-3692-4401-9936-0D88420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8C154-DD69-47F7-BC8F-C465FB4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0D7D-6AEB-47F4-B111-A569C80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AC70D-83FB-4EF7-B837-F78C6C0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CDB6-F027-4204-B596-7EEC0CF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044-4175-43E4-B02C-E2B57C6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B34C-8785-4C17-A3D1-FC97CBD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AC91-A145-4194-ACD3-E9577C4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DC65-74BF-4038-8C31-46BD93AC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DA38-F1B6-48F7-BBF4-20920DE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B6CC-47DD-4DA3-9DD3-B0D9C17C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C9E-A8C4-477E-9079-F401910F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962-1BEA-45E0-9849-3202725D54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330-A519-401B-8B4E-09990362C4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EAB-6129-4A61-B2D5-A94D1F7045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B86-425B-4EE5-BD61-B8732F3EF4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DCFC-2367-4D89-9374-FA22172759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281-E9C2-4898-8B22-7E244A0168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7293-E9D7-4EEB-B5B3-3BE4755CD0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27130e"/>
                </a:solidFill>
                <a:uFillTx/>
                <a:latin typeface="Corbel"/>
              </a:rPr>
              <a:t>Цель</a:t>
            </a:r>
            <a:r>
              <a:rPr b="1" lang="ru-RU" sz="2400" spc="-1" strike="noStrike">
                <a:solidFill>
                  <a:srgbClr val="27130e"/>
                </a:solidFill>
                <a:latin typeface="Corbel"/>
              </a:rPr>
              <a:t>:</a:t>
            </a:r>
            <a:r>
              <a:rPr b="0" lang="ru-RU" sz="2400" spc="-1" strike="noStrike">
                <a:solidFill>
                  <a:srgbClr val="27130e"/>
                </a:solidFill>
                <a:latin typeface="Corbel"/>
              </a:rPr>
              <a:t> Создание  условий  для  организации  психологически безопасного пространства в образовательном учреждении.</a:t>
            </a:r>
            <a:br>
              <a:rPr sz="2400"/>
            </a:br>
            <a:r>
              <a:rPr b="1" lang="ru-RU" sz="2400" spc="-1" strike="noStrike" u="sng">
                <a:solidFill>
                  <a:srgbClr val="27130e"/>
                </a:solidFill>
                <a:uFillTx/>
                <a:latin typeface="Corbe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27130e"/>
                </a:solidFill>
                <a:latin typeface="Corbel"/>
              </a:rPr>
              <a:t>1. Познакомить руководителей ОУ с результатами исследования психологического пространства (введение критериев психологического комфорта).</a:t>
            </a:r>
            <a:br>
              <a:rPr sz="2400"/>
            </a:br>
            <a:r>
              <a:rPr b="0" lang="ru-RU" sz="2400" spc="-1" strike="noStrike">
                <a:solidFill>
                  <a:srgbClr val="27130e"/>
                </a:solidFill>
                <a:latin typeface="Corbel"/>
              </a:rPr>
              <a:t>2. Провести рейтинг комфортного образовательного пространства. </a:t>
            </a:r>
            <a:br>
              <a:rPr sz="2400"/>
            </a:br>
            <a:r>
              <a:rPr b="0" lang="ru-RU" sz="2400" spc="-1" strike="noStrike">
                <a:solidFill>
                  <a:srgbClr val="27130e"/>
                </a:solidFill>
                <a:latin typeface="Corbel"/>
              </a:rPr>
              <a:t>3. Смоделировать эффективное взаимодействие команды  для создания  комфортного  психологического пространства ОУ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380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2223"/>
                </a:solidFill>
                <a:latin typeface="Arial"/>
              </a:rPr>
              <a:t>Особенности организации психологически безопасного пространства  в образовательном учрежд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680" y="69480"/>
            <a:ext cx="75628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о завершению работы по выстраиванию модели взаимодействия обсуждае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orbel"/>
              </a:rPr>
              <a:t>Вопрос участникам: </a:t>
            </a: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Насколько комфортно было работать в группе, с чем вы были согласны, с чем нет? Какая роль была вам отведена, как вы приняли эту роль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orbel"/>
              </a:rPr>
              <a:t>Вопрос  лидеру: </a:t>
            </a: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Как выстраивали  взаимодействие, что хотели отразить в выстроенной модели? Насколько комфортно вам было работать в группе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orbel"/>
              </a:rPr>
              <a:t>Вопрос  наблюдателям:  </a:t>
            </a:r>
            <a:r>
              <a:rPr b="1" lang="ru-RU" sz="2600" spc="-1" strike="noStrike">
                <a:solidFill>
                  <a:srgbClr val="3b1d15"/>
                </a:solidFill>
                <a:latin typeface="Corbel"/>
              </a:rPr>
              <a:t>Оцените эффективность действий лидера (стиль, поведение…), как реагирует группа, какие идеи остались не реализованы…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терактивная игровая рефлексия «Первый шаг успех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90720" y="2819520"/>
          <a:ext cx="7880400" cy="1844640"/>
        </p:xfrm>
        <a:graphic>
          <a:graphicData uri="http://schemas.openxmlformats.org/drawingml/2006/table">
            <a:tbl>
              <a:tblPr/>
              <a:tblGrid>
                <a:gridCol w="2627280"/>
                <a:gridCol w="2625480"/>
                <a:gridCol w="2627640"/>
              </a:tblGrid>
              <a:tr h="18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мешает созданию полного психологического комфорта в О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хотелось бы в идеале, какой должна быть обстановка в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для этого нужно 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sp>
        <p:nvSpPr>
          <p:cNvPr id="348" name="Заголовок 1"/>
          <p:cNvSpPr/>
          <p:nvPr/>
        </p:nvSpPr>
        <p:spPr>
          <a:xfrm>
            <a:off x="1219320" y="16765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Corbel"/>
              </a:rPr>
              <a:t>Вопросы для интерактив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ндивидуальная работа (алгоритм действий)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66680" y="1828800"/>
          <a:ext cx="7848720" cy="3048120"/>
        </p:xfrm>
        <a:graphic>
          <a:graphicData uri="http://schemas.openxmlformats.org/drawingml/2006/table">
            <a:tbl>
              <a:tblPr/>
              <a:tblGrid>
                <a:gridCol w="2971800"/>
                <a:gridCol w="4876920"/>
              </a:tblGrid>
              <a:tr h="32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то я могу сделать как руководитель О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 чего начну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ким будет первый шаг к созданию (или совершенствованию) комфортной среды для всех участников образовательного процесса  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09480" y="151920"/>
            <a:ext cx="8172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Позиция учителей существенно  отличается от позиции родителей в определении места комфортного и защищенного эмоционального состояния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42%(25) педагогов полагают, что чувство уверенности и комфорта у школьников связано со сферой их контактов с друзьями и сверстниками в школе. В свою очередь родители считают, что только дома их дети  могут действительно чувствовать себя уверенно и защищенно. 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Такая позиция может свидетельствовать  о выраженности чрезмерной родительской опеки (иллюзия контроля над поведением подростка), которая может замедлять  процесс социализации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По мнению школьников, общение в школе со сверстниками часто не является для них ситуацией  уверенного и защищенного состояния.</a:t>
            </a: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  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Наиболее комфортное состояние подростки испытывают дома и в сфере общения с друзьями вне школы.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41144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ольшая  часть родителей и половина педагогов считают, что дети (школьники) часто доверяют им свои мысли и чувства. Этот факт подтверждается высоким рейтингом доверия в отношении матери: 33% (41) доверяют  ей свои мысли и чувства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месте с тем, у 40%  (50) школьников высоким рейтингом доверия пользуются друзья (подруги). Можно также отметить низкий  рейтинг доверия подростков к отцу.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Диаграмма 5" descr=""/>
          <p:cNvPicPr/>
          <p:nvPr/>
        </p:nvPicPr>
        <p:blipFill>
          <a:blip r:embed="rId1"/>
          <a:stretch/>
        </p:blipFill>
        <p:spPr>
          <a:xfrm>
            <a:off x="1060560" y="225360"/>
            <a:ext cx="7785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5"/>
          <p:cNvSpPr/>
          <p:nvPr/>
        </p:nvSpPr>
        <p:spPr>
          <a:xfrm>
            <a:off x="1066680" y="4114800"/>
            <a:ext cx="784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 опрошенных чаще чувствуют себя в школе вполне комфортно: среди педагогов 56%(24), среди родителей 54%(23), школьников 61%(76) испытывают положительные эмоции при посещении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Диаграмма 3" descr=""/>
          <p:cNvPicPr/>
          <p:nvPr/>
        </p:nvPicPr>
        <p:blipFill>
          <a:blip r:embed="rId1"/>
          <a:stretch/>
        </p:blipFill>
        <p:spPr>
          <a:xfrm>
            <a:off x="0" y="-6480"/>
            <a:ext cx="87598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ходы к оценке безопасного психологического пространств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18960" y="1447920"/>
            <a:ext cx="749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мплексный подход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оценке комфортной образовательной и воспитательной среды (совпадение позиции родителей –педагогов- школьников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спользование четких критериев в оценке психологического микроклимат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уровень конфликтности, чувство уверенности и защищенности,  согласованность позиций педагога и родителя, стиль административного управления, сплоченность коллектива…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личие в образовательном учреждении эффективной воспитатель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предусматривающей включение в управленческую деятельность ученической самоорганиз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ониторинг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налаживание устойчивой  и эффективной обратной связи между всеми участниками образовательного процесса, отслеживания динамики изменений психологического пространства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рупповая работа «Моделирование  безопасного образовательного пространств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66320" y="1905120"/>
            <a:ext cx="765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Цель: Проведение  рейтинга ОУ, в которых создано безопасное (комфортное) образовательное пространство (с позиции руководителя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каком образовательном учреждении, на ваш взгляд, создан благоприятный психологический микроклимат, безопасное образовательное пространство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Сделайте свой выбор путем голосования (жетонами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Набор команды единомышленников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Двенадцатиугольник 3"/>
          <p:cNvSpPr/>
          <p:nvPr/>
        </p:nvSpPr>
        <p:spPr>
          <a:xfrm>
            <a:off x="3809880" y="1461960"/>
            <a:ext cx="2210040" cy="15098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ЛИД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по итогам голос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4"/>
          <p:cNvSpPr/>
          <p:nvPr/>
        </p:nvSpPr>
        <p:spPr>
          <a:xfrm>
            <a:off x="3581280" y="3352680"/>
            <a:ext cx="533520" cy="5335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5"/>
          <p:cNvSpPr/>
          <p:nvPr/>
        </p:nvSpPr>
        <p:spPr>
          <a:xfrm>
            <a:off x="6172200" y="3429000"/>
            <a:ext cx="533520" cy="5335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7"/>
          <p:cNvSpPr/>
          <p:nvPr/>
        </p:nvSpPr>
        <p:spPr>
          <a:xfrm>
            <a:off x="2438280" y="4419720"/>
            <a:ext cx="533520" cy="5331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8"/>
          <p:cNvSpPr/>
          <p:nvPr/>
        </p:nvSpPr>
        <p:spPr>
          <a:xfrm>
            <a:off x="4419720" y="4495680"/>
            <a:ext cx="533160" cy="5335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13"/>
          <p:cNvSpPr/>
          <p:nvPr/>
        </p:nvSpPr>
        <p:spPr>
          <a:xfrm rot="1749600">
            <a:off x="3995280" y="2862360"/>
            <a:ext cx="314280" cy="5317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16"/>
          <p:cNvSpPr/>
          <p:nvPr/>
        </p:nvSpPr>
        <p:spPr>
          <a:xfrm rot="2421600">
            <a:off x="2995200" y="3774600"/>
            <a:ext cx="380880" cy="685800"/>
          </a:xfrm>
          <a:prstGeom prst="downArrow">
            <a:avLst>
              <a:gd name="adj1" fmla="val 38361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17"/>
          <p:cNvSpPr/>
          <p:nvPr/>
        </p:nvSpPr>
        <p:spPr>
          <a:xfrm rot="19521600">
            <a:off x="4317840" y="3838320"/>
            <a:ext cx="312840" cy="68580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низ 21"/>
          <p:cNvSpPr/>
          <p:nvPr/>
        </p:nvSpPr>
        <p:spPr>
          <a:xfrm rot="19431000">
            <a:off x="5872320" y="2771280"/>
            <a:ext cx="299880" cy="63036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2"/>
          <p:cNvSpPr/>
          <p:nvPr/>
        </p:nvSpPr>
        <p:spPr>
          <a:xfrm>
            <a:off x="5375160" y="4495680"/>
            <a:ext cx="533520" cy="5335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23"/>
          <p:cNvSpPr/>
          <p:nvPr/>
        </p:nvSpPr>
        <p:spPr>
          <a:xfrm>
            <a:off x="7238880" y="4495680"/>
            <a:ext cx="533520" cy="5335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низ 24"/>
          <p:cNvSpPr/>
          <p:nvPr/>
        </p:nvSpPr>
        <p:spPr>
          <a:xfrm rot="2421600">
            <a:off x="5814720" y="3850920"/>
            <a:ext cx="380880" cy="685800"/>
          </a:xfrm>
          <a:prstGeom prst="downArrow">
            <a:avLst>
              <a:gd name="adj1" fmla="val 38361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низ 25"/>
          <p:cNvSpPr/>
          <p:nvPr/>
        </p:nvSpPr>
        <p:spPr>
          <a:xfrm rot="19521600">
            <a:off x="6872400" y="3914280"/>
            <a:ext cx="312480" cy="68580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Задание: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«Выстроить схематично модель взаимодействия, при которой будет создано благоприятное, безопасное  психологическое пространство для всех участников ОП (образовательного процесса)»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32d2e"/>
                </a:solidFill>
                <a:latin typeface="Corbel"/>
              </a:rPr>
              <a:t>Лидер рейтинга -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выстраивает модель, обозначает  роль каждого учитывая личностный, поведенческий, коммуникативный,  организаторский… ресурс каждого  для построения этого пространств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( 5 -7 минут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дание группе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(наблюдателям): оценить как действовал лидер (стиль, поведение…), как реагирует группа, какие идеи не реализован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8T01:50:48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