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076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064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076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064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255600"/>
            <a:ext cx="86058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rot="10800000">
            <a:off x="-1800" y="720"/>
            <a:ext cx="1008036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0" y="664380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4370400" y="6753240"/>
            <a:ext cx="5707080" cy="53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5"/>
          <p:cNvSpPr/>
          <p:nvPr/>
        </p:nvSpPr>
        <p:spPr>
          <a:xfrm>
            <a:off x="131760" y="6634080"/>
            <a:ext cx="5762520" cy="38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2108160" y="6788160"/>
            <a:ext cx="2260800" cy="23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6678720"/>
            <a:ext cx="5894280" cy="71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-455760"/>
            <a:ext cx="860904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br>
              <a:rPr sz="5400"/>
            </a:br>
            <a:r>
              <a:rPr b="0" lang="en-US" sz="6600" spc="-1" strike="noStrike">
                <a:solidFill>
                  <a:srgbClr val="000080"/>
                </a:solidFill>
                <a:latin typeface="Times New Roman"/>
              </a:rPr>
              <a:t>Психологическая безопасность</a:t>
            </a:r>
            <a:br>
              <a:rPr sz="6600"/>
            </a:br>
            <a:r>
              <a:rPr b="0" lang="en-US" sz="6600" spc="-1" strike="noStrike">
                <a:solidFill>
                  <a:srgbClr val="000080"/>
                </a:solidFill>
                <a:latin typeface="Times New Roman"/>
              </a:rPr>
              <a:t> образовательного процесс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2560" y="1993680"/>
            <a:ext cx="86090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У "МИМЦ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еминар директоров О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1"/>
          <p:cNvSpPr/>
          <p:nvPr/>
        </p:nvSpPr>
        <p:spPr>
          <a:xfrm>
            <a:off x="3780000" y="4140360"/>
            <a:ext cx="3060360" cy="28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у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"/>
          <p:cNvSpPr/>
          <p:nvPr/>
        </p:nvSpPr>
        <p:spPr>
          <a:xfrm>
            <a:off x="179280" y="1440000"/>
            <a:ext cx="4680000" cy="39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Разу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лл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4500720" y="179280"/>
            <a:ext cx="5400360" cy="468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Т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ьно-техниче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3780000" y="3060720"/>
            <a:ext cx="2879640" cy="216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74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шк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Times New Roman"/>
              </a:rPr>
              <a:t>Школьные факторы рис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3840" y="1850760"/>
            <a:ext cx="86058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рациональная организация учебного процес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изические, эмоциональные и интеллектуальные школьные перегруз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ессовая тактика и стратегия педагогических действ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9688680" cy="16876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Принципы управления коллективом для создания здорового микроклимата в школ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8920" y="1619280"/>
            <a:ext cx="98996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верять и уважать личное достоин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доставлять свободу выбора, способствовать                раскрытию возможностей  и инициатив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ощрять достижения кажд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арантировать каждому защищённость в коллектив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блюдать принцип сотрудничества, и участия                 учителей в управлении О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делать время пребывания в школе радостны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цип социальной справедливости 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чного    стимулиро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цип обно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7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Директор глазами учител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41240" y="1596600"/>
            <a:ext cx="8607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ребовательный к себ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мокритичны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актичны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ежливы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ющий педагогик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офессионал в предме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отов всегда помочь и умеет это            дела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Директор и его заместит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439640"/>
            <a:ext cx="972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ет сильные и слабые стороны                     своих зам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никает и помогает советом и дел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нтересуется  содержанием выезд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рганизует еженедельный отчет каждого,      начиная с себ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тмечает положительные стороны в               рабо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Директор и родит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60360" y="1619280"/>
            <a:ext cx="95392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являет внимание к посетителю,        выслушива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ать понять, что вы союзни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ирается в ответах на закон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б     образовании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арается привлечь родителей к             активному  взаимодейств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Директор и учащиес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41240" y="1641600"/>
            <a:ext cx="86076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сциплина в образовательном учреждении поддерживается на основе уважения человеческого достоинства обучающихся. Применение методов физического и психического насилия по отношению к обучающимся не допускается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.15,п.6 закона РФ “Об образовании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7:26:40Z</dcterms:created>
  <dc:creator/>
  <dc:description/>
  <dc:language>en-US</dc:language>
  <cp:lastModifiedBy>User</cp:lastModifiedBy>
  <dcterms:modified xsi:type="dcterms:W3CDTF">2010-11-18T04:33:37Z</dcterms:modified>
  <cp:revision>13</cp:revision>
  <dc:subject/>
  <dc:title>Облака</dc:title>
</cp:coreProperties>
</file>