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2A4-DE72-4BB3-B2F8-F4479E7A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A9E8-412D-471A-A2E7-EFB7820F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1C0-3CA2-4D3F-8CF0-B667958A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EEC8-7B6D-45AA-BFB6-B3AF0477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25C1-2A19-4BBE-B3B5-7CAA5AB5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C104-2F26-4B8C-AF38-41C3EB03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3C93-7212-4D2E-BCC9-0CCB16FE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38CD-ED15-48F4-BD6E-03482606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E03E-0E33-4597-808C-355FDAC8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ED2-26FC-482F-AA40-E7145232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493A-F68F-4E89-BBC9-43B16E0B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354-0846-4919-BBFF-0343BE8E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35E064-59AF-42E0-AC21-C068386F7C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741240" y="627120"/>
            <a:ext cx="8607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8080"/>
                </a:solidFill>
                <a:latin typeface="Times New Roman"/>
                <a:ea typeface="Lucida Sans Unicode"/>
              </a:rPr>
              <a:t>Система отношений и правовое пространство шко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imes New Roman"/>
              </a:rPr>
              <a:t>1.  </a:t>
            </a:r>
            <a:r>
              <a:rPr b="0" lang="ru-RU" sz="4400" spc="-1" strike="noStrike">
                <a:solidFill>
                  <a:srgbClr val="008080"/>
                </a:solidFill>
                <a:latin typeface="Times New Roman"/>
              </a:rPr>
              <a:t>Игнорирование прав и свобод           ребёнка</a:t>
            </a:r>
            <a:endParaRPr b="0" lang="en-US" sz="4400" spc="-1" strike="noStrike">
              <a:solidFill>
                <a:srgbClr val="198a8a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8080"/>
                </a:solidFill>
                <a:latin typeface="Times New Roman"/>
              </a:rPr>
              <a:t>2. Применение наказаний,                      ущемляющих                                       человеческое достоинство</a:t>
            </a:r>
            <a:endParaRPr b="0" lang="en-US" sz="4400" spc="-1" strike="noStrike">
              <a:solidFill>
                <a:srgbClr val="198a8a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8080"/>
                </a:solidFill>
                <a:latin typeface="Times New Roman"/>
              </a:rPr>
              <a:t>3. Нанесение вреда  здоровью</a:t>
            </a:r>
            <a:endParaRPr b="0" lang="en-US" sz="44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Факторы, нарушающие психологическое здоровь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78920" y="2101320"/>
            <a:ext cx="9720360" cy="509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80"/>
                </a:solidFill>
                <a:latin typeface="Times New Roman"/>
              </a:rPr>
              <a:t>Неприятие детства как особой                         субкультуры</a:t>
            </a:r>
            <a:endParaRPr b="0" lang="en-US" sz="4000" spc="-1" strike="noStrike">
              <a:solidFill>
                <a:srgbClr val="198a8a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80"/>
                </a:solidFill>
                <a:latin typeface="Times New Roman"/>
              </a:rPr>
              <a:t>Пренебрежение понятием «достоинство        человека»</a:t>
            </a:r>
            <a:endParaRPr b="0" lang="en-US" sz="4000" spc="-1" strike="noStrike">
              <a:solidFill>
                <a:srgbClr val="198a8a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80"/>
                </a:solidFill>
                <a:latin typeface="Times New Roman"/>
              </a:rPr>
              <a:t>Игнорирование детской индивидуальности</a:t>
            </a:r>
            <a:endParaRPr b="0" lang="en-US" sz="4000" spc="-1" strike="noStrike">
              <a:solidFill>
                <a:srgbClr val="198a8a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80"/>
                </a:solidFill>
                <a:latin typeface="Times New Roman"/>
              </a:rPr>
              <a:t>Пренебрежение равенством возможностей     и равного ко всем отношения</a:t>
            </a:r>
            <a:endParaRPr b="0" lang="en-US" sz="4000" spc="-1" strike="noStrike">
              <a:solidFill>
                <a:srgbClr val="198a8a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80"/>
                </a:solidFill>
                <a:latin typeface="Times New Roman"/>
              </a:rPr>
              <a:t>Авторитарный стиль педагогической              деятельности</a:t>
            </a:r>
            <a:endParaRPr b="0" lang="en-US" sz="40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741240" y="178920"/>
            <a:ext cx="860760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1. Игнорирование прав и свобод ребён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17640"/>
            <a:ext cx="860760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2. Применение наказаний, ущемляющих человеческое достоинств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640" y="1260360"/>
            <a:ext cx="9539280" cy="61200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8080"/>
                </a:solidFill>
                <a:latin typeface="Times New Roman"/>
              </a:rPr>
              <a:t>Физическое насилие</a:t>
            </a:r>
            <a:endParaRPr b="0" lang="en-US" sz="4400" spc="-1" strike="noStrike">
              <a:solidFill>
                <a:srgbClr val="198a8a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8080"/>
                </a:solidFill>
                <a:latin typeface="Times New Roman"/>
              </a:rPr>
              <a:t>Психологическое насилие</a:t>
            </a:r>
            <a:endParaRPr b="0" lang="en-US" sz="4400" spc="-1" strike="noStrike">
              <a:solidFill>
                <a:srgbClr val="198a8a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8080"/>
                </a:solidFill>
                <a:latin typeface="Times New Roman"/>
              </a:rPr>
              <a:t>Отчисление из школы детей до 14 лет</a:t>
            </a:r>
            <a:endParaRPr b="0" lang="en-US" sz="4400" spc="-1" strike="noStrike">
              <a:solidFill>
                <a:srgbClr val="198a8a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8080"/>
                </a:solidFill>
                <a:latin typeface="Times New Roman"/>
              </a:rPr>
              <a:t>Перевод на другой вид обучения без      согласия родителей</a:t>
            </a:r>
            <a:endParaRPr b="0" lang="en-US" sz="44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7320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Психологическое насил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1240" y="1774800"/>
            <a:ext cx="8607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Times New Roman"/>
              </a:rPr>
              <a:t>Открытое неприятие и постоянная критика ребёнка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Times New Roman"/>
              </a:rPr>
              <a:t>Оскорбление и унижение его человеческого достоинства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Times New Roman"/>
              </a:rPr>
              <a:t>Угрозы в адрес ребёнка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Times New Roman"/>
              </a:rPr>
              <a:t>Преднамеренная физическая или социальная изоляция ребёнка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Times New Roman"/>
              </a:rPr>
              <a:t>Предъявление требований, не соответствующих возрасту и возможностям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Times New Roman"/>
              </a:rPr>
              <a:t>Ложь и невыполнение обещаний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Times New Roman"/>
              </a:rPr>
              <a:t>Грубое физическое воздействие, вызвавшее у ребёнка психическую травму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429840"/>
            <a:ext cx="86076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3. Нанесение вреда здоровью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01360" y="1800360"/>
            <a:ext cx="860724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80"/>
                </a:solidFill>
                <a:latin typeface="Times New Roman"/>
              </a:rPr>
              <a:t>Расписание не соответствует нормам</a:t>
            </a:r>
            <a:endParaRPr b="0" lang="en-US" sz="4000" spc="-1" strike="noStrike">
              <a:solidFill>
                <a:srgbClr val="198a8a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80"/>
                </a:solidFill>
                <a:latin typeface="Times New Roman"/>
              </a:rPr>
              <a:t>Сверхнормативное увеличение                учебного плана</a:t>
            </a:r>
            <a:endParaRPr b="0" lang="en-US" sz="4000" spc="-1" strike="noStrike">
              <a:solidFill>
                <a:srgbClr val="198a8a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80"/>
                </a:solidFill>
                <a:latin typeface="Times New Roman"/>
              </a:rPr>
              <a:t>Более 2-х контрольных в день</a:t>
            </a:r>
            <a:endParaRPr b="0" lang="en-US" sz="4000" spc="-1" strike="noStrike">
              <a:solidFill>
                <a:srgbClr val="198a8a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80"/>
                </a:solidFill>
                <a:latin typeface="Times New Roman"/>
              </a:rPr>
              <a:t>Большие объёмы домашних заданий</a:t>
            </a:r>
            <a:endParaRPr b="0" lang="en-US" sz="4000" spc="-1" strike="noStrike">
              <a:solidFill>
                <a:srgbClr val="198a8a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80"/>
                </a:solidFill>
                <a:latin typeface="Times New Roman"/>
              </a:rPr>
              <a:t>Формируется страх ошибки</a:t>
            </a:r>
            <a:endParaRPr b="0" lang="en-US" sz="40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5:13:47Z</dcterms:created>
  <dc:creator/>
  <dc:description/>
  <dc:language>en-US</dc:language>
  <cp:lastModifiedBy>Марина</cp:lastModifiedBy>
  <dcterms:modified xsi:type="dcterms:W3CDTF">2010-11-15T03:35:22Z</dcterms:modified>
  <cp:revision>7</cp:revision>
  <dc:subject/>
  <dc:title>Слайд 1</dc:title>
</cp:coreProperties>
</file>