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1240" y="603000"/>
            <a:ext cx="860112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41240" y="4586400"/>
            <a:ext cx="860112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1240" y="603000"/>
            <a:ext cx="860112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8720" y="210168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41240" y="458640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8720" y="458640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1240" y="603000"/>
            <a:ext cx="860112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276948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9680" y="2101680"/>
            <a:ext cx="276948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7760" y="2101680"/>
            <a:ext cx="276948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41240" y="4586400"/>
            <a:ext cx="276948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49680" y="4586400"/>
            <a:ext cx="276948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57760" y="4586400"/>
            <a:ext cx="276948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29B85-5E1A-43FB-9DC5-ECB6F44D7EA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1240" y="603000"/>
            <a:ext cx="860112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D7856-05B6-43A3-98FF-9B0828D9B25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603000"/>
            <a:ext cx="860112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CCF9A-EB88-4656-9E1F-ADC8AE55E90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603000"/>
            <a:ext cx="860112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724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48720" y="2101680"/>
            <a:ext cx="419724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DA4C2-9204-4D51-8C00-C4F300179AB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603000"/>
            <a:ext cx="860112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1BADD-10E7-4BB1-80EE-82F7643F1D6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41240" y="603000"/>
            <a:ext cx="860112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7DDE5-0652-492F-9BE1-DD58B8CA8A6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1240" y="603000"/>
            <a:ext cx="860112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8720" y="2101680"/>
            <a:ext cx="419724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41240" y="458640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9EC26-C223-42DC-B225-7373E2CBC5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1240" y="603000"/>
            <a:ext cx="860112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1240" y="603000"/>
            <a:ext cx="860112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724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48720" y="210168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48720" y="458640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8B141-781A-43DE-9E23-5AEECA8463D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1240" y="603000"/>
            <a:ext cx="860112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48720" y="210168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41240" y="4586400"/>
            <a:ext cx="860112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FF835-22AC-409D-BC56-83FDC3FBE20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1240" y="603000"/>
            <a:ext cx="860112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41240" y="4586400"/>
            <a:ext cx="860112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99178-E8C2-47C0-A590-33340F66D2B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1240" y="603000"/>
            <a:ext cx="860112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48720" y="210168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41240" y="458640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48720" y="458640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D4794-51A4-4985-A77D-93A1173582C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1240" y="603000"/>
            <a:ext cx="860112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276948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49680" y="2101680"/>
            <a:ext cx="276948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57760" y="2101680"/>
            <a:ext cx="276948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41240" y="4586400"/>
            <a:ext cx="276948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49680" y="4586400"/>
            <a:ext cx="276948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557760" y="4586400"/>
            <a:ext cx="276948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8A243-9E61-4B80-BE33-B56D3A77D12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CFBA6-E1FA-48C7-BDE2-453565A02E2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1240" y="603000"/>
            <a:ext cx="860112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06D81-9C42-4F6D-A1E8-E05F9303CFA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1240" y="603000"/>
            <a:ext cx="860112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9339E-DAB0-4786-914C-D3C7D936F54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1240" y="603000"/>
            <a:ext cx="860112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724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48720" y="2101680"/>
            <a:ext cx="419724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272B2-B279-48D5-8625-66E080F327A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1240" y="603000"/>
            <a:ext cx="860112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3AF57-84E0-410E-8303-ACA269BE52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603000"/>
            <a:ext cx="860112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41240" y="603000"/>
            <a:ext cx="860112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898CB-979F-49BF-8332-07B21D10DFD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1240" y="603000"/>
            <a:ext cx="860112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48720" y="2101680"/>
            <a:ext cx="419724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41240" y="458640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08C08-E843-447F-A165-B951CF3BF7E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1240" y="603000"/>
            <a:ext cx="860112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724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8720" y="210168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48720" y="458640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34260-82B7-44E3-B043-40D0FB4DBEF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1240" y="603000"/>
            <a:ext cx="860112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48720" y="210168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41240" y="4586400"/>
            <a:ext cx="860112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589E8-B8AA-4DE4-9065-DAD74E4A5DC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1240" y="603000"/>
            <a:ext cx="860112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41240" y="4586400"/>
            <a:ext cx="860112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4547E-6235-407E-9ED8-C9BD9D64B07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41240" y="603000"/>
            <a:ext cx="860112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48720" y="210168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41240" y="458640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48720" y="458640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70B16-3051-4B5F-A27A-E3CCDD0C4E1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1240" y="603000"/>
            <a:ext cx="860112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276948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49680" y="2101680"/>
            <a:ext cx="276948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57760" y="2101680"/>
            <a:ext cx="276948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41240" y="4586400"/>
            <a:ext cx="276948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49680" y="4586400"/>
            <a:ext cx="276948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557760" y="4586400"/>
            <a:ext cx="276948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6B7BE-AE8B-41CA-ABB6-60E4B241E3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603000"/>
            <a:ext cx="860112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724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8720" y="2101680"/>
            <a:ext cx="419724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1240" y="603000"/>
            <a:ext cx="860112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1240" y="603000"/>
            <a:ext cx="860112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603000"/>
            <a:ext cx="860112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8720" y="2101680"/>
            <a:ext cx="419724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41240" y="458640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1240" y="603000"/>
            <a:ext cx="860112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724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8720" y="210168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8720" y="458640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1240" y="603000"/>
            <a:ext cx="860112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8720" y="210168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41240" y="4586400"/>
            <a:ext cx="860112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da6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1240" y="603000"/>
            <a:ext cx="860112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7462800" y="4829040"/>
            <a:ext cx="2616120" cy="254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da6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" descr=""/>
          <p:cNvPicPr/>
          <p:nvPr/>
        </p:nvPicPr>
        <p:blipFill>
          <a:blip r:embed="rId2"/>
          <a:stretch/>
        </p:blipFill>
        <p:spPr>
          <a:xfrm>
            <a:off x="7462800" y="4829040"/>
            <a:ext cx="2616120" cy="254808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41240" y="603000"/>
            <a:ext cx="860112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2687760" y="6888240"/>
            <a:ext cx="23493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6384960" y="6888240"/>
            <a:ext cx="31939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1"/>
          </p:nvPr>
        </p:nvSpPr>
        <p:spPr>
          <a:xfrm>
            <a:off x="91800" y="6879960"/>
            <a:ext cx="646200" cy="538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F8C30F1-CA7F-48D0-962E-96FB08DE981F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da6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" descr=""/>
          <p:cNvPicPr/>
          <p:nvPr/>
        </p:nvPicPr>
        <p:blipFill>
          <a:blip r:embed="rId2"/>
          <a:stretch/>
        </p:blipFill>
        <p:spPr>
          <a:xfrm>
            <a:off x="7462800" y="4829040"/>
            <a:ext cx="2616120" cy="2548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1240" y="603000"/>
            <a:ext cx="860112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687760" y="6888240"/>
            <a:ext cx="23493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6384960" y="6888240"/>
            <a:ext cx="31939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2"/>
          </p:nvPr>
        </p:nvSpPr>
        <p:spPr>
          <a:xfrm>
            <a:off x="91800" y="6879960"/>
            <a:ext cx="646200" cy="538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87785F3-524B-49A5-A52E-B1BDE4BA82B6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"/>
          <p:cNvSpPr/>
          <p:nvPr/>
        </p:nvSpPr>
        <p:spPr>
          <a:xfrm>
            <a:off x="754200" y="708120"/>
            <a:ext cx="860724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56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ОУ- Черепановская специальная (коррекционная) школа-интернат для детей сирот и детей, оставшихся без попечения родителей, VIII ви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525600" y="1979640"/>
            <a:ext cx="900108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29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imes New Roman"/>
              </a:rPr>
              <a:t>Порядок организации психолого-педагогического сопровождения подростков, склонных к употреблению алкоголя в условиях специализированного  учрежде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" descr=""/>
          <p:cNvPicPr/>
          <p:nvPr/>
        </p:nvPicPr>
        <p:blipFill>
          <a:blip r:embed="rId1"/>
          <a:stretch/>
        </p:blipFill>
        <p:spPr>
          <a:xfrm>
            <a:off x="1249200" y="8278920"/>
            <a:ext cx="5297760" cy="10303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"/>
          <p:cNvPicPr/>
          <p:nvPr/>
        </p:nvPicPr>
        <p:blipFill>
          <a:blip r:embed="rId2"/>
          <a:stretch/>
        </p:blipFill>
        <p:spPr>
          <a:xfrm>
            <a:off x="317520" y="262080"/>
            <a:ext cx="9442440" cy="180468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3"/>
          <p:cNvSpPr/>
          <p:nvPr/>
        </p:nvSpPr>
        <p:spPr>
          <a:xfrm>
            <a:off x="539640" y="1747800"/>
            <a:ext cx="9215640" cy="58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03630"/>
                </a:solidFill>
                <a:latin typeface="Arial"/>
                <a:ea typeface="Times New Roman"/>
              </a:rPr>
              <a:t>Рассматривает заявления и принимает решения  о постановке и снятии учащихся  с внутришкольного уче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0363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03630"/>
                </a:solidFill>
                <a:latin typeface="Arial"/>
                <a:ea typeface="Times New Roman"/>
              </a:rPr>
              <a:t>Определяет ответственного  за социальный патронаж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0363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03630"/>
                </a:solidFill>
                <a:latin typeface="Arial"/>
                <a:ea typeface="Times New Roman"/>
              </a:rPr>
              <a:t>Принимает решения об оказании материальной помощи  семьям , находящимся в социально-опасном положен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0363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03630"/>
                </a:solidFill>
                <a:latin typeface="Arial"/>
                <a:ea typeface="Times New Roman"/>
              </a:rPr>
              <a:t>Обследование материально-бытовых условий  семей , находящихся в социально-опасном положении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0363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03630"/>
                </a:solidFill>
                <a:latin typeface="Arial"/>
                <a:ea typeface="Times New Roman"/>
              </a:rPr>
              <a:t>Собеседование  с родителями учащихся , чьи  семьи находятся в социально-опасном положении(по представлению классных руководителей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0363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03630"/>
                </a:solidFill>
                <a:latin typeface="Arial"/>
                <a:ea typeface="Times New Roman"/>
              </a:rPr>
              <a:t>Проведение  индивидуально-воспитательной  работы  с подростками девиантного  поведения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0363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03630"/>
                </a:solidFill>
                <a:latin typeface="Arial"/>
                <a:ea typeface="Times New Roman"/>
              </a:rPr>
              <a:t>Анализирует работу  по защите прав детей и профилактике безнадзорности и правонарушений среди учащихся школ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"/>
          <p:cNvSpPr/>
          <p:nvPr/>
        </p:nvSpPr>
        <p:spPr>
          <a:xfrm>
            <a:off x="2521080" y="3089160"/>
            <a:ext cx="50385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254160" y="1049040"/>
            <a:ext cx="9358200" cy="58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ПМПк  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ыявление и рання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ервых дней пребывания ребенка в О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иагности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клонений в развитии и/или состояний декомпенса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филакти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изических, интеллектуальных и эмоционально-личностных перегрузок и срыв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ыявлен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ервных возможностей развит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пределе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арактера, продолжительности и эффективности специальной (коррекционной) помощи в рамках имеющихся в ОУ возможностей; (составление индивидуальных программ сопровождения детей группы «риска»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дготовка и ведение документац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тражающей актуальное развитие ребенка, динамику его состояния, уровень  успешн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рганизация взаимодейств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 специалистами учреждения и специалистами, участвующими в деятельности консилиу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219240" y="-231840"/>
            <a:ext cx="9686880" cy="11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1"/>
          <p:cNvSpPr/>
          <p:nvPr/>
        </p:nvSpPr>
        <p:spPr>
          <a:xfrm>
            <a:off x="741240" y="604800"/>
            <a:ext cx="8602920" cy="12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офилактическая рабо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676440" y="1847880"/>
            <a:ext cx="8729640" cy="552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1"/>
          <p:cNvSpPr/>
          <p:nvPr/>
        </p:nvSpPr>
        <p:spPr>
          <a:xfrm>
            <a:off x="741240" y="2101680"/>
            <a:ext cx="8602920" cy="47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198a8a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664d"/>
                </a:solidFill>
                <a:latin typeface="Times New Roman"/>
              </a:rPr>
              <a:t>Важную роль в воспитании здоровой личности играет организация свободного времени подростков. В нашей школе  организовано 10 кружков и кружковой работой охвачено более 90% учащихся в школе. Проводится большая и нужная работа  по вопросам  занятости  детей  творческой деятельностью  во внеурочное время. Многие  учащиеся  посещают    по два творческих объедин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WordArt 2"/>
          <p:cNvSpPr txBox="1"/>
          <p:nvPr/>
        </p:nvSpPr>
        <p:spPr>
          <a:xfrm>
            <a:off x="896760" y="708120"/>
            <a:ext cx="8680680" cy="13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Impact"/>
              </a:rPr>
              <a:t>Занятость  учащихся во внеурочное  врем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Impact"/>
              <a:ea typeface="Impac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Oval 1"/>
          <p:cNvSpPr/>
          <p:nvPr/>
        </p:nvSpPr>
        <p:spPr>
          <a:xfrm>
            <a:off x="3532320" y="2509920"/>
            <a:ext cx="3254400" cy="222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ffffff"/>
                </a:solidFill>
                <a:uFillTx/>
                <a:latin typeface="Arial"/>
              </a:rPr>
              <a:t>Занятость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ffffff"/>
                </a:solidFill>
                <a:uFillTx/>
                <a:latin typeface="Arial"/>
              </a:rPr>
              <a:t>учащихся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ffffff"/>
                </a:solidFill>
                <a:uFillTx/>
                <a:latin typeface="Arial"/>
              </a:rPr>
              <a:t>во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ffffff"/>
                </a:solidFill>
                <a:uFillTx/>
                <a:latin typeface="Arial"/>
              </a:rPr>
              <a:t>внеурочное врем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2"/>
          <p:cNvSpPr/>
          <p:nvPr/>
        </p:nvSpPr>
        <p:spPr>
          <a:xfrm>
            <a:off x="2254320" y="851040"/>
            <a:ext cx="1984320" cy="13492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00664d"/>
                </a:solidFill>
                <a:uFillTx/>
                <a:latin typeface="Arial"/>
              </a:rPr>
              <a:t>«Школа игр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00664d"/>
                </a:solidFill>
                <a:uFillTx/>
                <a:latin typeface="Arial"/>
              </a:rPr>
              <a:t>на гитаре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Oval 3"/>
          <p:cNvSpPr/>
          <p:nvPr/>
        </p:nvSpPr>
        <p:spPr>
          <a:xfrm>
            <a:off x="4643280" y="5526000"/>
            <a:ext cx="1587600" cy="13510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«Азбук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Гражданин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Oval 4"/>
          <p:cNvSpPr/>
          <p:nvPr/>
        </p:nvSpPr>
        <p:spPr>
          <a:xfrm>
            <a:off x="254160" y="2494080"/>
            <a:ext cx="2287440" cy="13255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«Мир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творчеств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Oval 5"/>
          <p:cNvSpPr/>
          <p:nvPr/>
        </p:nvSpPr>
        <p:spPr>
          <a:xfrm>
            <a:off x="2500200" y="5448240"/>
            <a:ext cx="1905120" cy="14288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00664d"/>
                </a:solidFill>
                <a:uFillTx/>
                <a:latin typeface="Arial"/>
              </a:rPr>
              <a:t>«Юны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00664d"/>
                </a:solidFill>
                <a:uFillTx/>
                <a:latin typeface="Arial"/>
              </a:rPr>
              <a:t>патриот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Oval 6"/>
          <p:cNvSpPr/>
          <p:nvPr/>
        </p:nvSpPr>
        <p:spPr>
          <a:xfrm>
            <a:off x="682560" y="4280040"/>
            <a:ext cx="2141640" cy="1110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00664d"/>
                </a:solidFill>
                <a:uFillTx/>
                <a:latin typeface="Arial"/>
              </a:rPr>
              <a:t>«Танцевальный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Oval 7"/>
          <p:cNvSpPr/>
          <p:nvPr/>
        </p:nvSpPr>
        <p:spPr>
          <a:xfrm>
            <a:off x="4540320" y="565200"/>
            <a:ext cx="1668240" cy="1430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«Резьба п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Дереву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Oval 8"/>
          <p:cNvSpPr/>
          <p:nvPr/>
        </p:nvSpPr>
        <p:spPr>
          <a:xfrm>
            <a:off x="7500960" y="2271600"/>
            <a:ext cx="1984320" cy="1508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«Волшеб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сундучок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Oval 9"/>
          <p:cNvSpPr/>
          <p:nvPr/>
        </p:nvSpPr>
        <p:spPr>
          <a:xfrm>
            <a:off x="6548400" y="5367240"/>
            <a:ext cx="1905120" cy="14288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«Информатик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Oval 10"/>
          <p:cNvSpPr/>
          <p:nvPr/>
        </p:nvSpPr>
        <p:spPr>
          <a:xfrm>
            <a:off x="6708600" y="843120"/>
            <a:ext cx="1665360" cy="15890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«Спортивн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Секция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Oval 11"/>
          <p:cNvSpPr/>
          <p:nvPr/>
        </p:nvSpPr>
        <p:spPr>
          <a:xfrm>
            <a:off x="7421400" y="3938760"/>
            <a:ext cx="1825920" cy="14284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«Изостудия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12"/>
          <p:cNvSpPr/>
          <p:nvPr/>
        </p:nvSpPr>
        <p:spPr>
          <a:xfrm flipV="1">
            <a:off x="5468760" y="1992240"/>
            <a:ext cx="18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13"/>
          <p:cNvSpPr/>
          <p:nvPr/>
        </p:nvSpPr>
        <p:spPr>
          <a:xfrm flipV="1">
            <a:off x="6389640" y="2269800"/>
            <a:ext cx="714600" cy="6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14"/>
          <p:cNvSpPr/>
          <p:nvPr/>
        </p:nvSpPr>
        <p:spPr>
          <a:xfrm flipV="1">
            <a:off x="6708600" y="3142800"/>
            <a:ext cx="95112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15"/>
          <p:cNvSpPr/>
          <p:nvPr/>
        </p:nvSpPr>
        <p:spPr>
          <a:xfrm>
            <a:off x="6548400" y="4176720"/>
            <a:ext cx="873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16"/>
          <p:cNvSpPr/>
          <p:nvPr/>
        </p:nvSpPr>
        <p:spPr>
          <a:xfrm>
            <a:off x="6072120" y="4573440"/>
            <a:ext cx="793800" cy="95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ne 17"/>
          <p:cNvSpPr/>
          <p:nvPr/>
        </p:nvSpPr>
        <p:spPr>
          <a:xfrm>
            <a:off x="5119560" y="4811760"/>
            <a:ext cx="158760" cy="79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Line 18"/>
          <p:cNvSpPr/>
          <p:nvPr/>
        </p:nvSpPr>
        <p:spPr>
          <a:xfrm flipH="1">
            <a:off x="3927240" y="4653000"/>
            <a:ext cx="399960" cy="87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Line 19"/>
          <p:cNvSpPr/>
          <p:nvPr/>
        </p:nvSpPr>
        <p:spPr>
          <a:xfrm flipH="1">
            <a:off x="2752200" y="4065480"/>
            <a:ext cx="860760" cy="56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Line 20"/>
          <p:cNvSpPr/>
          <p:nvPr/>
        </p:nvSpPr>
        <p:spPr>
          <a:xfrm flipH="1">
            <a:off x="2395440" y="3422520"/>
            <a:ext cx="11700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Line 21"/>
          <p:cNvSpPr/>
          <p:nvPr/>
        </p:nvSpPr>
        <p:spPr>
          <a:xfrm flipH="1" flipV="1">
            <a:off x="3753000" y="2063880"/>
            <a:ext cx="731520" cy="52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1"/>
          <p:cNvSpPr/>
          <p:nvPr/>
        </p:nvSpPr>
        <p:spPr>
          <a:xfrm>
            <a:off x="587520" y="-333360"/>
            <a:ext cx="9096120" cy="31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Tahoma"/>
              </a:rPr>
              <a:t>  </a:t>
            </a:r>
            <a:br>
              <a:rPr sz="35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«Без  веры  невозможно  сформировать у  подрастающего  поколения  моральные  устои»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2"/>
          <p:cNvSpPr/>
          <p:nvPr/>
        </p:nvSpPr>
        <p:spPr>
          <a:xfrm>
            <a:off x="741240" y="2565360"/>
            <a:ext cx="8602920" cy="42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80000"/>
              </a:lnSpc>
              <a:spcAft>
                <a:spcPts val="1426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198a8a"/>
                </a:solidFill>
                <a:latin typeface="Times New Roman"/>
              </a:rPr>
              <a:t>«</a:t>
            </a:r>
            <a:r>
              <a:rPr b="0" lang="ru-RU" sz="3600" spc="-1" strike="noStrike">
                <a:solidFill>
                  <a:srgbClr val="2d2db9"/>
                </a:solidFill>
                <a:latin typeface="Times New Roman"/>
              </a:rPr>
              <a:t>Без крепкого  духовного  стержня  человек  не в состоянии  противиться  злу . Необходимо православное  воспитание , в котором понятие «патриотизм» священно»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1426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2d2db9"/>
                </a:solidFill>
                <a:latin typeface="Times New Roman"/>
              </a:rPr>
              <a:t>Православное  воспитание  создает внутри детей гармонию , благодаря  чему  и окружающий мир  становится  гармоничным</a:t>
            </a:r>
            <a:r>
              <a:rPr b="0" lang="ru-RU" sz="2200" spc="-1" strike="noStrike">
                <a:solidFill>
                  <a:srgbClr val="198a8a"/>
                </a:solidFill>
                <a:latin typeface="Times New Roman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1"/>
          <p:cNvSpPr/>
          <p:nvPr/>
        </p:nvSpPr>
        <p:spPr>
          <a:xfrm>
            <a:off x="741240" y="604800"/>
            <a:ext cx="8602920" cy="12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2"/>
          <p:cNvSpPr/>
          <p:nvPr/>
        </p:nvSpPr>
        <p:spPr>
          <a:xfrm>
            <a:off x="741240" y="2101680"/>
            <a:ext cx="8602920" cy="47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Group 1"/>
          <p:cNvGrpSpPr/>
          <p:nvPr/>
        </p:nvGrpSpPr>
        <p:grpSpPr>
          <a:xfrm>
            <a:off x="923760" y="2603520"/>
            <a:ext cx="4151520" cy="4100400"/>
            <a:chOff x="923760" y="2603520"/>
            <a:chExt cx="4151520" cy="4100400"/>
          </a:xfrm>
        </p:grpSpPr>
        <p:sp>
          <p:nvSpPr>
            <p:cNvPr id="204" name="AutoShape 2"/>
            <p:cNvSpPr/>
            <p:nvPr/>
          </p:nvSpPr>
          <p:spPr>
            <a:xfrm>
              <a:off x="923760" y="2603520"/>
              <a:ext cx="4151520" cy="4100400"/>
            </a:xfrm>
            <a:prstGeom prst="roundRect">
              <a:avLst>
                <a:gd name="adj" fmla="val 3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5" name="Rectangle 3"/>
          <p:cNvSpPr/>
          <p:nvPr/>
        </p:nvSpPr>
        <p:spPr>
          <a:xfrm>
            <a:off x="3825720" y="2351160"/>
            <a:ext cx="2772000" cy="785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Arial"/>
              </a:rPr>
              <a:t>руководите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539640" y="3994200"/>
            <a:ext cx="1428840" cy="839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2d2db9"/>
                </a:solidFill>
                <a:latin typeface="Arial"/>
                <a:ea typeface="Times New Roman"/>
              </a:rPr>
              <a:t>Комит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2d2db9"/>
                </a:solidFill>
                <a:latin typeface="Arial"/>
                <a:ea typeface="Times New Roman"/>
              </a:rPr>
              <a:t>помощ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1254240" y="5065560"/>
            <a:ext cx="1344600" cy="839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d2db9"/>
                </a:solidFill>
                <a:latin typeface="Arial"/>
              </a:rPr>
              <a:t>Комит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d2db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d2db9"/>
                </a:solidFill>
                <a:latin typeface="Arial"/>
              </a:rPr>
              <a:t>дисципли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d2db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d2db9"/>
                </a:solidFill>
                <a:latin typeface="Arial"/>
              </a:rPr>
              <a:t>и поряд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3897360" y="3565440"/>
            <a:ext cx="2643120" cy="839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d2db9"/>
                </a:solidFill>
                <a:latin typeface="Arial"/>
              </a:rPr>
              <a:t>Совет старшеклассни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7183440" y="5137200"/>
            <a:ext cx="1344600" cy="839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d2db9"/>
                </a:solidFill>
                <a:latin typeface="Arial"/>
              </a:rPr>
              <a:t>Учебный комит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8183520" y="4065480"/>
            <a:ext cx="1595520" cy="839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d2db9"/>
                </a:solidFill>
                <a:latin typeface="Arial"/>
              </a:rPr>
              <a:t>Комитет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d2db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d2db9"/>
                </a:solidFill>
                <a:latin typeface="Arial"/>
              </a:rPr>
              <a:t>печати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d2db9"/>
                </a:solidFill>
                <a:latin typeface="Arial"/>
              </a:rPr>
              <a:t>информ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2039760" y="6137280"/>
            <a:ext cx="1622520" cy="1155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d2db9"/>
                </a:solidFill>
                <a:latin typeface="Arial"/>
              </a:rPr>
              <a:t>Комит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d2db9"/>
                </a:solidFill>
                <a:latin typeface="Arial"/>
              </a:rPr>
              <a:t>санитарии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d2db9"/>
                </a:solidFill>
                <a:latin typeface="Arial"/>
              </a:rPr>
              <a:t>здоровь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10"/>
          <p:cNvSpPr/>
          <p:nvPr/>
        </p:nvSpPr>
        <p:spPr>
          <a:xfrm>
            <a:off x="4254480" y="4923000"/>
            <a:ext cx="1595520" cy="755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d2db9"/>
                </a:solidFill>
                <a:latin typeface="Arial"/>
              </a:rPr>
              <a:t>Трудов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d2db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d2db9"/>
                </a:solidFill>
                <a:latin typeface="Arial"/>
              </a:rPr>
              <a:t>комит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1"/>
          <p:cNvSpPr/>
          <p:nvPr/>
        </p:nvSpPr>
        <p:spPr>
          <a:xfrm>
            <a:off x="6326280" y="6280200"/>
            <a:ext cx="1571400" cy="857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d2db9"/>
                </a:solidFill>
                <a:latin typeface="Arial"/>
              </a:rPr>
              <a:t>Спортив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d2db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d2db9"/>
                </a:solidFill>
                <a:latin typeface="Arial"/>
              </a:rPr>
              <a:t>комит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Line 12"/>
          <p:cNvSpPr/>
          <p:nvPr/>
        </p:nvSpPr>
        <p:spPr>
          <a:xfrm flipH="1">
            <a:off x="1967040" y="2922480"/>
            <a:ext cx="1860480" cy="1071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13"/>
          <p:cNvSpPr/>
          <p:nvPr/>
        </p:nvSpPr>
        <p:spPr>
          <a:xfrm flipH="1">
            <a:off x="2538000" y="3137040"/>
            <a:ext cx="1360440" cy="178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14"/>
          <p:cNvSpPr/>
          <p:nvPr/>
        </p:nvSpPr>
        <p:spPr>
          <a:xfrm flipH="1">
            <a:off x="2966760" y="3137040"/>
            <a:ext cx="1090440" cy="300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15"/>
          <p:cNvSpPr/>
          <p:nvPr/>
        </p:nvSpPr>
        <p:spPr>
          <a:xfrm>
            <a:off x="5183280" y="3137040"/>
            <a:ext cx="1440" cy="42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Line 16"/>
          <p:cNvSpPr/>
          <p:nvPr/>
        </p:nvSpPr>
        <p:spPr>
          <a:xfrm>
            <a:off x="5254560" y="4422600"/>
            <a:ext cx="180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17"/>
          <p:cNvSpPr/>
          <p:nvPr/>
        </p:nvSpPr>
        <p:spPr>
          <a:xfrm>
            <a:off x="6469200" y="3137040"/>
            <a:ext cx="714240" cy="314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Line 18"/>
          <p:cNvSpPr/>
          <p:nvPr/>
        </p:nvSpPr>
        <p:spPr>
          <a:xfrm>
            <a:off x="6611760" y="2708280"/>
            <a:ext cx="1571760" cy="142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Line 19"/>
          <p:cNvSpPr/>
          <p:nvPr/>
        </p:nvSpPr>
        <p:spPr>
          <a:xfrm>
            <a:off x="6611760" y="3137040"/>
            <a:ext cx="1571760" cy="200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20"/>
          <p:cNvSpPr/>
          <p:nvPr/>
        </p:nvSpPr>
        <p:spPr>
          <a:xfrm>
            <a:off x="468360" y="182880"/>
            <a:ext cx="892980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Школьная Детская Организация «СмиД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(Содружество Мальчишек и Девчонок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для обучающихся 5-9 (10) клас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21"/>
          <p:cNvSpPr/>
          <p:nvPr/>
        </p:nvSpPr>
        <p:spPr>
          <a:xfrm>
            <a:off x="682560" y="1525680"/>
            <a:ext cx="9001080" cy="9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2d2db9"/>
                </a:solidFill>
                <a:latin typeface="Times New Roman"/>
              </a:rPr>
              <a:t>С Т Р У К Т У Р А</a:t>
            </a:r>
            <a:r>
              <a:rPr b="1" i="1" lang="ru-RU" sz="2000" spc="-1" strike="noStrike">
                <a:solidFill>
                  <a:srgbClr val="2d2db9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2d2db9"/>
                </a:solidFill>
                <a:latin typeface="Times New Roman"/>
              </a:rPr>
              <a:t>У П Р А В Л Е Н И Я</a:t>
            </a:r>
            <a:r>
              <a:rPr b="0" lang="ru-RU" sz="2000" spc="-1" strike="noStrike">
                <a:solidFill>
                  <a:srgbClr val="2d2db9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d2db9"/>
                </a:solidFill>
                <a:latin typeface="Times New Roman"/>
              </a:rPr>
              <a:t>Школьной Детской  Организации  «СМиД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22"/>
          <p:cNvSpPr/>
          <p:nvPr/>
        </p:nvSpPr>
        <p:spPr>
          <a:xfrm>
            <a:off x="0" y="0"/>
            <a:ext cx="1008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"/>
          <p:cNvSpPr/>
          <p:nvPr/>
        </p:nvSpPr>
        <p:spPr>
          <a:xfrm>
            <a:off x="396720" y="352800"/>
            <a:ext cx="9501480" cy="71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Задачи СМиД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d2db9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d2db9"/>
                </a:solidFill>
                <a:latin typeface="Arial"/>
              </a:rPr>
              <a:t>Создание условий для реализации личностного потенциа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d2db9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d2db9"/>
                </a:solidFill>
                <a:latin typeface="Arial"/>
              </a:rPr>
              <a:t>Приобщение личности к общечеловеческим ценностям, социальным норма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d2db9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d2db9"/>
                </a:solidFill>
                <a:latin typeface="Arial"/>
              </a:rPr>
              <a:t>Самовыражение, самоутверждение каждого члена организации через участие в дел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d2db9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d2db9"/>
                </a:solidFill>
                <a:latin typeface="Arial"/>
              </a:rPr>
              <a:t>Обеспечение отношений сотрудничества, взаимоуважения между педагогами и  учащими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d2db9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d2db9"/>
                </a:solidFill>
                <a:latin typeface="Arial"/>
              </a:rPr>
              <a:t>Развитие творчества, инициативы, формирование активной преобразующей гражданской позиции учащихся</a:t>
            </a:r>
            <a:r>
              <a:rPr b="0" lang="ru-RU" sz="2400" spc="-1" strike="noStrike">
                <a:solidFill>
                  <a:srgbClr val="2d2db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1"/>
          <p:cNvSpPr/>
          <p:nvPr/>
        </p:nvSpPr>
        <p:spPr>
          <a:xfrm>
            <a:off x="741240" y="1422360"/>
            <a:ext cx="8602920" cy="54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1280" indent="-34128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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d2db9"/>
                </a:solidFill>
                <a:latin typeface="Times New Roman"/>
              </a:rPr>
              <a:t>Повышение позитивной  социальной  активности  всех  учащихс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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d2db9"/>
                </a:solidFill>
                <a:latin typeface="Times New Roman"/>
              </a:rPr>
              <a:t>Снижение количества противоправных  действ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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d2db9"/>
                </a:solidFill>
                <a:latin typeface="Times New Roman"/>
              </a:rPr>
              <a:t>Снижение  количества пропусков  учебных  занятий  без уважительной  причин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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d2db9"/>
                </a:solidFill>
                <a:latin typeface="Times New Roman"/>
              </a:rPr>
              <a:t>Повышение активности  родительской  общественн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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d2db9"/>
                </a:solidFill>
                <a:latin typeface="Times New Roman"/>
              </a:rPr>
              <a:t>Формирование  ценностных  ориентаций  и  социальных  навыков,  позволяющих  адаптироваться  в  современном  мир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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d2db9"/>
                </a:solidFill>
                <a:latin typeface="Times New Roman"/>
              </a:rPr>
              <a:t>Формирование позитивных  жизненных ценностей  в преодолении  негативного  влияния социум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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d2db9"/>
                </a:solidFill>
                <a:latin typeface="Times New Roman"/>
              </a:rPr>
              <a:t>Социально-личностная  адаптация  к окружающей  сред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237960" y="158760"/>
            <a:ext cx="9455400" cy="124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"/>
          <p:cNvSpPr/>
          <p:nvPr/>
        </p:nvSpPr>
        <p:spPr>
          <a:xfrm>
            <a:off x="539640" y="422280"/>
            <a:ext cx="8858520" cy="64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Как известно, многим детям свойственны временные отклонения от поведения. Как правило, они легко преодолеваются усилиями родителей, учителей, воспитателей. Но поведение какой-то части детей выходит за рамки допустимых шалостей и проступков, и воспитательная работа с ними, протекая с затруднениями, не приносит желаемого успеха. Таких детей относят к категории «трудных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«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Трудные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» – это такая категория детей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которая требует особого внимания с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стороны педагогов, воспитател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и других специалист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706320" y="255600"/>
            <a:ext cx="8444160" cy="113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1"/>
          <p:cNvSpPr/>
          <p:nvPr/>
        </p:nvSpPr>
        <p:spPr>
          <a:xfrm>
            <a:off x="0" y="0"/>
            <a:ext cx="975528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дивидуальный подход  к коррекции поведения  учащихся   девиантного  повед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254160" y="1065240"/>
          <a:ext cx="9574200" cy="6211800"/>
        </p:xfrm>
        <a:graphic>
          <a:graphicData uri="http://schemas.openxmlformats.org/drawingml/2006/table">
            <a:tbl>
              <a:tblPr/>
              <a:tblGrid>
                <a:gridCol w="342720"/>
                <a:gridCol w="2306520"/>
                <a:gridCol w="2065320"/>
                <a:gridCol w="2467080"/>
                <a:gridCol w="2392560"/>
              </a:tblGrid>
              <a:tr h="464040">
                <a:tc>
                  <a:txBody>
                    <a:bodyPr lIns="100800" rIns="100800" tIns="60120" bIns="504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60120" bIns="504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60120" bIns="504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авленная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60120" bIns="504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и методы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60120" bIns="504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жидаемый результат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2960">
                <a:tc>
                  <a:txBody>
                    <a:bodyPr lIns="100800" rIns="100800" tIns="60120" bIns="504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60120" bIns="504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явление учащихся ,имеющих отклонения в нормах поведени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60120" bIns="504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авление  банка данных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60120" bIns="504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рточки учет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заимодействие с классными руководителям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60120" bIns="504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авление и корректировка списков по параллелям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100800" rIns="100800" tIns="60120" bIns="504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60120" bIns="504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нирование  работы с выявленными детьми и их родителям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60120" bIns="504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циально психологическое сопровождение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60120" bIns="504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ивидуальные и групповые собеседования с учащимися  и родителями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60120" bIns="504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упреждение правонарушени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100800" rIns="100800" tIns="60120" bIns="504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60120" bIns="504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 посещения занятий детьми девиантного поведени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60120" bIns="504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тивное принятие мер по профилактике правонарушени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60120" bIns="504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Журнал учета пропусков заняти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Работа с классными журналам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60120" bIns="504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абилитация подростка девиантного поведени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8280">
                <a:tc>
                  <a:txBody>
                    <a:bodyPr lIns="100800" rIns="100800" tIns="60120" bIns="504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60120" bIns="504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филактика совершения обучающимися правонарушений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60120" bIns="504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ние законопослушного гражданин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60120" bIns="504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Обсуждение нарушений Устава школы в классных коллективах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Индивидуальные собеседования  с учителям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Выступление на совещании при директоре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Встречи с инспекторами ПДН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60120" bIns="504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ние у учащихся чувства ответственности за свои действи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0280">
                <a:tc>
                  <a:txBody>
                    <a:bodyPr lIns="100800" rIns="100800" tIns="60120" bIns="504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60120" bIns="504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филактика вредных привычек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60120" bIns="504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ние ответственного отношения к здоровому образу жизн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60120" bIns="504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лиз тестов, анкет. Встречи с врачами-специалистами. Просмотр видеофильмов, акции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60120" bIns="504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витие навыка самоконтроля, умения сказать «нет»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0120">
                <a:tc>
                  <a:txBody>
                    <a:bodyPr lIns="100800" rIns="100800" tIns="60120" bIns="504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60120" bIns="504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влечение учащихся девиантного поведения в различные виды позитивной  деятельност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60120" bIns="504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иентировка деятельности подростка на развитие своих творческих способносте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60120" bIns="504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Карточки индивидуального опроса 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Вовлечение в участие в классных и школьных мероприятиях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60120" bIns="504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 занятости во внеурочное время. Организация досуга  через  дополнительное образование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680">
                <a:tc>
                  <a:txBody>
                    <a:bodyPr lIns="100800" rIns="100800" tIns="60120" bIns="504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60120" bIns="504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а с родителями  учащихся, оказавшихся в трудной жизненной ситуаци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60120" bIns="504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гласованность мнений семьи и школы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60120" bIns="504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ивидуальные встречи с родителями. Просветительская  деятельность. Родительские собрания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60120" bIns="504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ие условий для обретения взаимопонимания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1"/>
          <p:cNvSpPr/>
          <p:nvPr/>
        </p:nvSpPr>
        <p:spPr>
          <a:xfrm>
            <a:off x="182520" y="208080"/>
            <a:ext cx="97156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еключение зоны активности трудного подростка 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социально-значимую сфер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82520" y="993600"/>
          <a:ext cx="9717120" cy="6278760"/>
        </p:xfrm>
        <a:graphic>
          <a:graphicData uri="http://schemas.openxmlformats.org/drawingml/2006/table">
            <a:tbl>
              <a:tblPr/>
              <a:tblGrid>
                <a:gridCol w="2559240"/>
                <a:gridCol w="2143080"/>
                <a:gridCol w="2147760"/>
                <a:gridCol w="2867040"/>
              </a:tblGrid>
              <a:tr h="314640">
                <a:tc rowSpan="2">
                  <a:txBody>
                    <a:bodyPr lIns="100800" rIns="100800" tIns="62640" bIns="504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отрицательного образования, подлежащего исправлению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100800" rIns="100800" tIns="62640" bIns="504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ие социально полезные дела способствуют переключению зоны активнос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9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62640" bIns="504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4-6 класса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62640" bIns="504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7-8 класса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62640" bIns="504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9-10 класса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440">
                <a:tc>
                  <a:txBody>
                    <a:bodyPr lIns="100800" rIns="100800" tIns="60840" bIns="504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исциплинированн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62640" bIns="504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удовые десант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62640" bIns="504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яды юных патрулей в школ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62640" bIns="504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влечение в самовоспитание, самоорганизация образа жизни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100800" rIns="100800" tIns="62640" bIns="504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улиганст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62640" bIns="504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влечение в дополнительное  образова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62640" bIns="504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ивидуальное шефство классного руководител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62640" bIns="504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ртивные детские лагеря, шефство предприят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4440">
                <a:tc>
                  <a:txBody>
                    <a:bodyPr lIns="100800" rIns="100800" tIns="62640" bIns="504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ровст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62640" bIns="504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а в кружке по охране и ремонту школьного имущества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62640" bIns="504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седы о чести класса и школы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62640" bIns="504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кольное общество изобретателе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100800" rIns="100800" tIns="64440" bIns="504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сток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62640" bIns="504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муровская работа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62640" bIns="504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ество охраны природы , живой уголок в класс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62640" bIns="504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ество охраны природы , живой уголок в класс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100800" rIns="100800" tIns="64440" bIns="504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62640" bIns="504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влечение в игры, занятия спорто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62640" bIns="504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ятельность по интереса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62640" bIns="504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лективный труд совместно со взрослым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100800" rIns="100800" tIns="62640" bIns="504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жив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62640" bIns="504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дение бесед и тренингов «Расскажи мне о себе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62640" bIns="504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тупление на классных часах «Умей сказать правду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62640" bIns="504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влечение в самовоспитание, самоорганизация образа жизни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4000">
                <a:tc>
                  <a:txBody>
                    <a:bodyPr lIns="100800" rIns="100800" tIns="62640" bIns="504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уб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62640" bIns="504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ки вежливости и культуры повед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62640" bIns="504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седы о речевой культуре, об этикете отношений юношей и девуше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62640" bIns="504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итание культуры самообладания, выдержки, умения правильно вести себя в конфликтных ситуация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1" descr=""/>
          <p:cNvPicPr/>
          <p:nvPr/>
        </p:nvPicPr>
        <p:blipFill>
          <a:blip r:embed="rId1"/>
          <a:stretch/>
        </p:blipFill>
        <p:spPr>
          <a:xfrm>
            <a:off x="244440" y="628560"/>
            <a:ext cx="9417240" cy="519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" descr=""/>
          <p:cNvPicPr/>
          <p:nvPr/>
        </p:nvPicPr>
        <p:blipFill>
          <a:blip r:embed="rId1"/>
          <a:stretch/>
        </p:blipFill>
        <p:spPr>
          <a:xfrm>
            <a:off x="665280" y="176040"/>
            <a:ext cx="8850240" cy="11289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2"/>
          <p:cNvSpPr/>
          <p:nvPr/>
        </p:nvSpPr>
        <p:spPr>
          <a:xfrm>
            <a:off x="1397160" y="1351080"/>
            <a:ext cx="68580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32946a"/>
                </a:solidFill>
                <a:latin typeface="Arial"/>
              </a:rPr>
              <a:t>(от лат.</a:t>
            </a:r>
            <a:r>
              <a:rPr b="0" i="1" lang="en-US" sz="2800" spc="-1" strike="noStrike">
                <a:solidFill>
                  <a:srgbClr val="32946a"/>
                </a:solidFill>
                <a:latin typeface="Arial"/>
              </a:rPr>
              <a:t> Deviation – </a:t>
            </a:r>
            <a:r>
              <a:rPr b="0" i="1" lang="ru-RU" sz="2800" spc="-1" strike="noStrike">
                <a:solidFill>
                  <a:srgbClr val="32946a"/>
                </a:solidFill>
                <a:latin typeface="Arial"/>
              </a:rPr>
              <a:t>отклонени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896760" y="1779480"/>
            <a:ext cx="842976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664d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664d"/>
                </a:solidFill>
                <a:latin typeface="Arial"/>
              </a:rPr>
              <a:t>Определяется  как  отклоняющееся  поведение , т.е. как  отдельные  поступки  или  система  поступков , противоречащих общепринятым  в обществе  правовым  или  нравственным  нормам. Типичными проявлениями девиантного  поведения  являются  ситуационно обусловленные  детские и подростковые  поведенческие реакции  </a:t>
            </a:r>
            <a:r>
              <a:rPr b="0" lang="ru-RU" sz="1800" spc="-1" strike="noStrike">
                <a:solidFill>
                  <a:srgbClr val="00664d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"/>
          <p:cNvSpPr/>
          <p:nvPr/>
        </p:nvSpPr>
        <p:spPr>
          <a:xfrm>
            <a:off x="671400" y="539640"/>
            <a:ext cx="814860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2323dc"/>
                </a:solidFill>
                <a:latin typeface="Lucida Sans"/>
              </a:rPr>
              <a:t>ПОВЕДЕНЧЕСКИЕ  РЕАКЦ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41400" y="1440000"/>
            <a:ext cx="10051920" cy="54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5800" bIns="45000" anchor="t">
            <a:noAutofit/>
          </a:bodyPr>
          <a:p>
            <a:pPr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* ДЕМОНСТРАЦ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* АГРЕСС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* ВЫЗ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* САМОВОЛЬНОЕ И СИСТЕМАТИЧЕСКОЕ ОТКЛОНЕНИЕ ОТ УЧЕБЫ и ТРУДОВОЙ ДЕЯТЕЛЬНОСТ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* СИСТЕМАТИЧЕСКИЕ УХОДЫ  ИЗ ДОМА И БРОДЯЖНИЧЕСТВО 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* ПЬЯНСТВО и АЛКОГОЛИЗ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* РАННЯЯ  НАРКОТИЗАЦ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* АНТИОБЩЕСТВЕННЫЕ ДЕЙСТВИЯ  СЕКСУАЛЬНОГО  ХАРАКТЕР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* ПОПЫТКА  СУИЦИ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"/>
          <p:cNvSpPr/>
          <p:nvPr/>
        </p:nvSpPr>
        <p:spPr>
          <a:xfrm>
            <a:off x="896760" y="1279440"/>
            <a:ext cx="8820360" cy="57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5400" bIns="45000" anchor="t">
            <a:noAutofit/>
          </a:bodyPr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b80047"/>
                </a:solidFill>
                <a:uFillTx/>
                <a:latin typeface="Arial"/>
              </a:rPr>
              <a:t>БИОЛОГИЧЕСКИЕ  ФАКТОРЫ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e279ed"/>
                </a:solidFill>
                <a:latin typeface="Arial"/>
              </a:rPr>
              <a:t>Генетические</a:t>
            </a:r>
            <a:r>
              <a:rPr b="1" i="1" lang="ru-RU" sz="2200" spc="-1" strike="noStrike">
                <a:solidFill>
                  <a:srgbClr val="99cc99"/>
                </a:solidFill>
                <a:latin typeface="Arial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, которые  передаются  по  наследству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e279ed"/>
                </a:solidFill>
                <a:latin typeface="Arial"/>
              </a:rPr>
              <a:t>Психофизиологические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, связанные с влиянием на организм человека  психофизиологических  нагрузок, конфликтных ситуаций , химического состояния окружающей среды , приводящих  к различным  соматическим , аллергическим , токсическим  заболеваниям 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e279ed"/>
                </a:solidFill>
                <a:latin typeface="Arial"/>
              </a:rPr>
              <a:t>Физиологические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, включающие в себя  дефекты  речи, внешнюю непривлекательность , недостатки  конституционно-соматического  склада  человека 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b80047"/>
                </a:solidFill>
                <a:uFillTx/>
                <a:latin typeface="Arial"/>
              </a:rPr>
              <a:t>ПСИХОЛОГИЧЕСКИЕ  ФАКТОРЫ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, в  которые  включаются  наличие у ребенка  психопатологии  или акцентуации  отдельных черт  характера 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b80047"/>
                </a:solidFill>
                <a:uFillTx/>
                <a:latin typeface="Arial"/>
              </a:rPr>
              <a:t>СОЦИАЛЬНО-ПЕДАГОГИЧЕСКИЕ  ФАКТОРЫ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выражаются  в  дефектах  школьного , семейного  или  общественного  воспитания , в основе   которых  лежат  половозрастные  и  индивидуальные  особенности  детей ,  приводящих к отклонениям  в ранней   социализации  ребенка  в период  детства с накоплением  негативного  опыт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573120" y="179280"/>
            <a:ext cx="860724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56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ичины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539640" y="720720"/>
            <a:ext cx="9180720" cy="57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5400" bIns="45000" anchor="t">
            <a:noAutofit/>
          </a:bodyPr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 u="sng">
                <a:solidFill>
                  <a:srgbClr val="b80047"/>
                </a:solidFill>
                <a:uFillTx/>
                <a:latin typeface="Arial"/>
              </a:rPr>
              <a:t>СОЦИАЛЬНО-ЭКОНОМИЧЕСКИЕ  ФАКТОРЫ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включают  социальное  неравенство расслоение  общества  на богатых и бедных , обнищание значительной  массы населения, ограничение  социально приемлемых  способов   получения  достойного  заработка , также  включает  безработицу , инфляцию и , как следствие , социальную  напряженность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 u="sng">
                <a:solidFill>
                  <a:srgbClr val="b80047"/>
                </a:solidFill>
                <a:uFillTx/>
                <a:latin typeface="Arial"/>
              </a:rPr>
              <a:t>МОРАЛЬНО-ЭТИЧЕСКИЕ  ФАКТОРЫ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проявляются , с одной  стороны , в низком  морально- нравственном  уровне  современного общества , разрушений  ценностей  , в  первую  очередь  духовных , падения  нравов ;  с другой стороны –в  нейтральном  отношении  общества  к проявлениям  девиантного  поведения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"/>
          <p:cNvSpPr/>
          <p:nvPr/>
        </p:nvSpPr>
        <p:spPr>
          <a:xfrm>
            <a:off x="741240" y="652320"/>
            <a:ext cx="860580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Дети находящиеся на учёт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241200" y="1779480"/>
            <a:ext cx="4870440" cy="4714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2"/>
          <a:stretch/>
        </p:blipFill>
        <p:spPr>
          <a:xfrm>
            <a:off x="4722840" y="1779480"/>
            <a:ext cx="5103720" cy="485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1"/>
          <p:cNvSpPr txBox="1"/>
          <p:nvPr/>
        </p:nvSpPr>
        <p:spPr>
          <a:xfrm>
            <a:off x="325440" y="422280"/>
            <a:ext cx="95727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24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одель взаимодействия участников образовательного процесса 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673200" y="2352600"/>
            <a:ext cx="1668240" cy="870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Учител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предметн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595440" y="3938760"/>
            <a:ext cx="1984320" cy="87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Окружающ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сре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сверстни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673200" y="5684760"/>
            <a:ext cx="1827000" cy="770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родите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2" name="AutoShape 5"/>
          <p:cNvCxnSpPr/>
          <p:nvPr/>
        </p:nvCxnSpPr>
        <p:spPr>
          <a:xfrm>
            <a:off x="2579760" y="2668680"/>
            <a:ext cx="2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3" name="Oval 6"/>
          <p:cNvSpPr/>
          <p:nvPr/>
        </p:nvSpPr>
        <p:spPr>
          <a:xfrm>
            <a:off x="5516640" y="3382920"/>
            <a:ext cx="1827000" cy="1008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подрост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5597640" y="2271600"/>
            <a:ext cx="1508040" cy="635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Класс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руководит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3770280" y="2827440"/>
            <a:ext cx="1587600" cy="557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Педагог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психоло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7500960" y="2747880"/>
            <a:ext cx="1746360" cy="555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Социаль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педаго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5357880" y="4653000"/>
            <a:ext cx="2119320" cy="554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Зам  директо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по В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11"/>
          <p:cNvSpPr/>
          <p:nvPr/>
        </p:nvSpPr>
        <p:spPr>
          <a:xfrm>
            <a:off x="5357880" y="6002280"/>
            <a:ext cx="2143080" cy="635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Директор школ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12"/>
          <p:cNvSpPr/>
          <p:nvPr/>
        </p:nvSpPr>
        <p:spPr>
          <a:xfrm>
            <a:off x="7819920" y="6478560"/>
            <a:ext cx="1903680" cy="770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Педагогиче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сов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Line 13"/>
          <p:cNvSpPr/>
          <p:nvPr/>
        </p:nvSpPr>
        <p:spPr>
          <a:xfrm flipH="1">
            <a:off x="7182000" y="3303720"/>
            <a:ext cx="320400" cy="317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14"/>
          <p:cNvSpPr/>
          <p:nvPr/>
        </p:nvSpPr>
        <p:spPr>
          <a:xfrm flipV="1">
            <a:off x="6469200" y="5204880"/>
            <a:ext cx="1440" cy="79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15"/>
          <p:cNvSpPr/>
          <p:nvPr/>
        </p:nvSpPr>
        <p:spPr>
          <a:xfrm>
            <a:off x="7500960" y="6161040"/>
            <a:ext cx="396720" cy="397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16"/>
          <p:cNvSpPr/>
          <p:nvPr/>
        </p:nvSpPr>
        <p:spPr>
          <a:xfrm>
            <a:off x="4802040" y="3382920"/>
            <a:ext cx="555840" cy="1270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17"/>
          <p:cNvSpPr/>
          <p:nvPr/>
        </p:nvSpPr>
        <p:spPr>
          <a:xfrm flipH="1">
            <a:off x="7419600" y="3303720"/>
            <a:ext cx="878040" cy="1349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18"/>
          <p:cNvSpPr/>
          <p:nvPr/>
        </p:nvSpPr>
        <p:spPr>
          <a:xfrm>
            <a:off x="2500200" y="6002280"/>
            <a:ext cx="7146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19"/>
          <p:cNvSpPr/>
          <p:nvPr/>
        </p:nvSpPr>
        <p:spPr>
          <a:xfrm>
            <a:off x="2579760" y="4336920"/>
            <a:ext cx="47628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20"/>
          <p:cNvSpPr/>
          <p:nvPr/>
        </p:nvSpPr>
        <p:spPr>
          <a:xfrm>
            <a:off x="2341440" y="2827440"/>
            <a:ext cx="95256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21"/>
          <p:cNvSpPr/>
          <p:nvPr/>
        </p:nvSpPr>
        <p:spPr>
          <a:xfrm>
            <a:off x="5357880" y="3382920"/>
            <a:ext cx="317520" cy="238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22"/>
          <p:cNvSpPr/>
          <p:nvPr/>
        </p:nvSpPr>
        <p:spPr>
          <a:xfrm>
            <a:off x="6310440" y="2906640"/>
            <a:ext cx="1440" cy="555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23"/>
          <p:cNvSpPr/>
          <p:nvPr/>
        </p:nvSpPr>
        <p:spPr>
          <a:xfrm flipV="1">
            <a:off x="4564080" y="2507760"/>
            <a:ext cx="1033560" cy="320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24"/>
          <p:cNvSpPr/>
          <p:nvPr/>
        </p:nvSpPr>
        <p:spPr>
          <a:xfrm>
            <a:off x="7104240" y="2509920"/>
            <a:ext cx="1191960" cy="237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25"/>
          <p:cNvSpPr/>
          <p:nvPr/>
        </p:nvSpPr>
        <p:spPr>
          <a:xfrm>
            <a:off x="3133800" y="2271600"/>
            <a:ext cx="874800" cy="4206960"/>
          </a:xfrm>
          <a:custGeom>
            <a:avLst/>
            <a:gdLst>
              <a:gd name="textAreaLeft" fmla="*/ 559080 w 874800"/>
              <a:gd name="textAreaRight" fmla="*/ 875160 w 874800"/>
              <a:gd name="textAreaTop" fmla="*/ 109440 h 4206960"/>
              <a:gd name="textAreaBottom" fmla="*/ 4097520 h 4206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AutoShape 26"/>
          <p:cNvSpPr/>
          <p:nvPr/>
        </p:nvSpPr>
        <p:spPr>
          <a:xfrm rot="16200000">
            <a:off x="6150600" y="2985120"/>
            <a:ext cx="635040" cy="4923000"/>
          </a:xfrm>
          <a:custGeom>
            <a:avLst/>
            <a:gdLst>
              <a:gd name="textAreaLeft" fmla="*/ 405720 w 635040"/>
              <a:gd name="textAreaRight" fmla="*/ 635400 w 635040"/>
              <a:gd name="textAreaTop" fmla="*/ 128160 h 4923000"/>
              <a:gd name="textAreaBottom" fmla="*/ 4794840 h 492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825480" y="2494080"/>
            <a:ext cx="8072280" cy="46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55760" indent="-455760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Arial"/>
              <a:buAutoNum type="arabicPeriod"/>
              <a:tabLst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16165d"/>
                </a:solidFill>
                <a:latin typeface="Arial"/>
              </a:rPr>
              <a:t>Заседания малых педагогический советов (заместитель директора по УВР, классный руководитель, учителя –предметники, социальный педагог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Arial"/>
              <a:buAutoNum type="arabicPeriod"/>
              <a:tabLst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16165d"/>
                </a:solidFill>
                <a:latin typeface="Arial"/>
              </a:rPr>
              <a:t>Совет по защите прав детей и профилактике правонарушений и безнадзорности (заместитель директора по УВР, классный руководитель, учителя –предметники, социальный педагог, инспектор ПДН, педагог-психолог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Arial"/>
              <a:buAutoNum type="arabicPeriod"/>
              <a:tabLst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16165d"/>
                </a:solidFill>
                <a:latin typeface="Arial"/>
              </a:rPr>
              <a:t>Школьный психолого – медико – педагогический консилиум (психолог, учитель-дефектолог, классный руководитель, учителя –предметники, социальный педагог, родители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4351320" y="3605040"/>
            <a:ext cx="1843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463680" y="73080"/>
            <a:ext cx="9229680" cy="2577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08:04:21Z</dcterms:created>
  <dc:creator>Antonio</dc:creator>
  <dc:description/>
  <dc:language>en-US</dc:language>
  <cp:lastModifiedBy>PVV</cp:lastModifiedBy>
  <dcterms:modified xsi:type="dcterms:W3CDTF">2010-11-29T05:17:49Z</dcterms:modified>
  <cp:revision>32</cp:revision>
  <dc:subject/>
  <dc:title>МОУ Черепановская специальная (коррекционная) школа-интернат для детей сирот и детей, оставшихся без попечения родителей, VIII вида</dc:title>
</cp:coreProperties>
</file>