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E80-DE30-405A-911B-386B05EB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5B0-90C0-41F8-9BE5-C042E33A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56-B342-4291-96C0-361FF876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35A-BA94-44E4-80D5-018B3CAA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FA5-3E8F-4A4D-A319-36CDC44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0B3-A106-40F9-8E24-9940A05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CBA-14FD-4374-8B91-ED33052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F06-D6F0-4C94-842E-778B4329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27A-FDE8-438A-B23A-5C5FED4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875-3E97-4C5D-B594-5B231E5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518-E25C-4A9F-B005-303E243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439-A4BE-457E-804D-C5D3D7D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574D-37C8-458D-8DE3-AC3E5CA670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FE3-5C54-4B25-AE78-BA5B5D49B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нина Тамар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347760" y="133200"/>
            <a:ext cx="8686800" cy="5011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1214280" y="528624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Arial"/>
              </a:rPr>
              <a:t>социальный педагог </a:t>
            </a:r>
            <a:br>
              <a:rPr sz="2400"/>
            </a:br>
            <a:r>
              <a:rPr b="1" lang="ru-RU" sz="2400" spc="-1" strike="noStrike">
                <a:solidFill>
                  <a:srgbClr val="d9d9d9"/>
                </a:solidFill>
                <a:latin typeface="Arial"/>
              </a:rPr>
              <a:t>МОУ Ярковской СОШ им.Романова К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Arial"/>
              </a:rPr>
              <a:t>26.11.2010 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ляющие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2_3 составляющие здоровья.JPG"/>
          <p:cNvPicPr/>
          <p:nvPr/>
        </p:nvPicPr>
        <p:blipFill>
          <a:blip r:embed="rId1"/>
          <a:stretch/>
        </p:blipFill>
        <p:spPr>
          <a:xfrm>
            <a:off x="214200" y="107172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рофилактика злоупотребления ПАВ:</a:t>
            </a:r>
            <a:r>
              <a:rPr b="1" lang="ru-RU" sz="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лекс социальных, образовательных и медико-психологических мероприятий, направленных на предотвращение распространения и употребления ПАВ,  предупреждение развития и ликвидации и негативных личностных, социальных и медицинских последствий злоупотребления ПАВ (безнадзорность, преступность, рост сопутствующих наркомании заболеван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Первичная профилактика наркомании и алкоголиз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714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целью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предотвратить возникновение нарушения или начала болезни, предупредить негативные исходы и усилить позитивные результаты развития индиви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38412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Формы и методы организ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ервичной профилактики употребления ПАВ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анкетирование (диагностическое и аналитическое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тренинговые занят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дискусс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филактическая работа в рамках учебных предме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Вторичная профилактика наркомании и алкоголиз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лавной целью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   является изменение дезадаптивных и псевдоадаптивных моделей поведения риска на более адаптивную модель здорового повед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 направле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сстановление личности и ее эффективного функционирования в социальной среде  после соответствующего лечения, уменьшения вероятности рецидива заболе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 направле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нижение вреда от употребления наркотиков у тех, кто еще не готов к прекращению их употреб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ретичная  профилактика наркомании и алкоголиз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42920"/>
            <a:ext cx="9144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РЯДОК ДЕЙСТВИЙ ПРИ ОБНАРУЖЕНИИ ФАКТА РАСПРОСТРАНЕНИЯ ИЛИ УПОТРЕБЛЕНИЯ НЕСОВЕРШЕННОЛЕТНИМИ 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предпринимать никаких самостоятельных действий по предотвращению распространения наркотических и психотропны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0" y="17859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сключить возможность утеч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0" y="2214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афиксировать как можно больше информ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0" y="271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сю имеющуюся информацию передавать только в территориальные управления Федеральной службы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0" y="3429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и подозрении на употребление несовершеннолетними наркотиков следует помнить, что установление состояния наркотического одурманивания является компетенцией врача, в частности, психиатра-нарколога или психи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Тактичность и осторожность в работе с несовершеннолетними, имеющими наркологические проблемы, являются обязательным прави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0" y="5500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ервой задачей педагога при подозрении на употребление несовершеннолетним наркотиков является предоставление ему достаточной информации о негативных последствиях потребления одурманивающ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Если у Вас возникли подозрения, что подросток употребляет ПАВ, то наиболее оправданны следующие действ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ректно сообщить о своих подозрениях родителям или опекунам подрос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дозрении на групповое потребление ПАВ необходимо провести повторные беседы с родителями всех членов группы. В ряде случаев это целесообразно осуществить в виде собраний с приглашением врача психиатра-нарколога, работника правоохранительных орга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овать индивидуальные встречи подростков и/или их родителей с врачом районного наркологического кабин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оставить подросткам и их родителям информацию о возможности анонимного обследования и лечения, указать адреса и телефоны организаций, работающих в таком режи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Если у вас возникли подозрения, что подросток находится в состоянии алкогольного или наркотического опьянения, то в таком случае рекоменду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лить учащегося из класса, отделить его от однокласс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медленно поставить в известность руководителя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очно вызвать медицинского работника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лучае, когда состояние подростка может быть расценено как состояние алкогольного или наркотического опьянения, немедленно известить о случившемся родителей или опекунов подрос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целесообразно проведение немедленного разбирательства причин и обстоятельств употребления алкоголя или наркот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овершении подростком хулиганских действий, целесообразно прибегнуть к помощи правоохранительных орга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акторы р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4_ЗОЖ.JPG"/>
          <p:cNvPicPr/>
          <p:nvPr/>
        </p:nvPicPr>
        <p:blipFill>
          <a:blip r:embed="rId1"/>
          <a:stretch/>
        </p:blipFill>
        <p:spPr>
          <a:xfrm>
            <a:off x="285840" y="1071720"/>
            <a:ext cx="8651880" cy="57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хие циф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85840" y="11430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ой Организации Здравоохра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00240" y="235728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ЖЕГОДНО УМИР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Молния 5"/>
          <p:cNvSpPr/>
          <p:nvPr/>
        </p:nvSpPr>
        <p:spPr>
          <a:xfrm rot="6952200">
            <a:off x="2593440" y="3378240"/>
            <a:ext cx="2021040" cy="363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олния 6"/>
          <p:cNvSpPr/>
          <p:nvPr/>
        </p:nvSpPr>
        <p:spPr>
          <a:xfrm rot="2856600">
            <a:off x="4304880" y="3402000"/>
            <a:ext cx="2021040" cy="363600"/>
          </a:xfrm>
          <a:prstGeom prst="lightningBolt">
            <a:avLst/>
          </a:prstGeom>
          <a:solidFill>
            <a:srgbClr val="f41d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Бутылка.JPG"/>
          <p:cNvPicPr/>
          <p:nvPr/>
        </p:nvPicPr>
        <p:blipFill>
          <a:blip r:embed="rId1"/>
          <a:stretch/>
        </p:blipFill>
        <p:spPr>
          <a:xfrm>
            <a:off x="6286680" y="2857680"/>
            <a:ext cx="785520" cy="1919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Сигарета.JPG"/>
          <p:cNvPicPr/>
          <p:nvPr/>
        </p:nvPicPr>
        <p:blipFill>
          <a:blip r:embed="rId2"/>
          <a:stretch/>
        </p:blipFill>
        <p:spPr>
          <a:xfrm>
            <a:off x="1785960" y="3517920"/>
            <a:ext cx="1090440" cy="12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714240" y="4876920"/>
            <a:ext cx="31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миллио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кур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495680" y="4876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 миллион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 от алкоголиз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нозируется, что в 2020 году от курения погибнут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миллион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возрасте от 30 до 40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риска употребления П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4572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уппы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травмирующие ситуации относительно кратковременного действия, но психологически очень знач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онически действующие психотравмирующие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 депр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14920" y="1000080"/>
            <a:ext cx="42148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акторы р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Утрата или болезнь одного из род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сора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емейные конфли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Школьная неуспева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едостаток внимания, ухода со стороны родителей, заботы, ла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Разлука с семь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928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виду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143160" y="884880"/>
            <a:ext cx="60008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ные и возрастные проблем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расположенность к риску, склонность к саморазруше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сти реализации интеллектуального потенциа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Низкая толерантность к стресс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ание быть в центре вним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пытств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ическое здоровь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птицизм к профилактическим мера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ая или генетическая предрасположен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7286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Фа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000160" y="919440"/>
            <a:ext cx="71438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экономический статус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степень доступности (низкие цены, множество точек продажи наркот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нижение моральных устоев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сть получения быстр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ая дезадап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лишняя или недостаточная родительская оп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ление ПАВ родителями, братьями и сес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йное попустительство на прием наркотиков (разрешение родите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овое давление со стороны сверстников на потребление П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утствие межведомственного взаимодействия различных социальных институтов, занимающихся проблемами профилактики злоупотребления П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утствие систематических образовательных курсов по расширению психологической и педагогической компетенции участников образовательного процесса и окружающего соци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ти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214200" y="1071720"/>
            <a:ext cx="8685360" cy="57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27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тивы и причины употребления ПАВ подростками и молодежь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ест против родительского от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утверждение в среде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 взрослости, му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ражание лиде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бопытство и эксперимен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лабление нерв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ятие или снижение душевной и физической б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бавление от стр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ение на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001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Arial"/>
              </a:rPr>
              <a:t>Социально-педагогическое сопровождение</a:t>
            </a:r>
            <a:r>
              <a:rPr b="0" lang="ru-RU" sz="36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7120" y="1714320"/>
            <a:ext cx="8786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деятельность, направленная на конкретного ребенка, способствующая решению его индивидуальных проблем посредством изучения личности ребенка и окружающего его социума; поиска адекватных способов общения с ребенком; выявления средств, помогающих ребенку самостоятельно решить свою пробл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5010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нципы социально-педагогическ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8800" y="1785600"/>
            <a:ext cx="7859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дивидуально-личностный подход к ребен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ора на положительные стороны личности реб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ивность подхода к ребен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иденциа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Цель социально-педагогической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2642760"/>
            <a:ext cx="78598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ранение негативных факторов, способствующих алкоголизаци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дачи социально-педагогической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форм активной действенной социально-педагогической помощи и защиты для конкретно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у подростка позитивных ценностных ори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лечение подростков в социально-полез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активной личности, привитие ей качеств  гражданина, семьянина, формирование положительной само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ение физического и психического здоровь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снов правовой культуры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«выживания» в условиях кризиса современ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c1c1d"/>
                </a:solidFill>
                <a:uFillTx/>
                <a:latin typeface="Arial"/>
              </a:rPr>
              <a:t>Факторы социально-педагогической деятельност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9144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ивидуально-психиче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ивидуально-сомат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ый внешко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ый шко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менты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4_ЗОЖ.JPG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82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c1c1d"/>
                </a:solidFill>
                <a:uFillTx/>
                <a:latin typeface="Arial"/>
              </a:rPr>
              <a:t>Компоненты социально-педагогической деятельност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7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гативно влияющий социально-психологический климат класса, низкий социальный статус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убъекты ( социальный педагог, специалист по социальной работе сельского совета и родител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ъект, для которого и организуется вся социально-педагогическая деятельность (де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Функции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Мет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Формы реализации мет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держание социально-педагогической деятельности с детьми, склонными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ению алког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3572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новные на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по повышению уровня социальной адаптации ребенка, склонного к употреблению спиртных напитков, посредством его личност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по профилактике алкоголизма, включающую противоалкогольное обучение и воспитание детей с целью формирования у них отрицательного отношения к употреблению алког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по просвещению родителей с целью оздоровления семьи, ее быта и культуры взаимоотношений между чле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деятельность предусматривает выполнение социальным педагогом следующих основны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ункции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ого педаго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92888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о-воспит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защи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то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предительно-профилак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7030a0"/>
                </a:solidFill>
                <a:uFillTx/>
                <a:latin typeface="Arial"/>
              </a:rPr>
              <a:t>Три основных ро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ве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щи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326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встанете у жизненных руле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вас зависит то, каким мир будет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CCP1CALC6QAJCAWV96M8CA7IFT6FCAF1X4Y0CA7DDFHCCAYCSJJSCA03RS5MCAZC0QVICA8UKF5PCAH2TM09CATLMKT3CAB1GHKKCANKAVZYCA716HB0CA2MDIA5CAK5I10FCAE55X2ZCALYM84MCAZ11SLP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50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5880" y="1000080"/>
            <a:ext cx="7859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Narrow"/>
              </a:rPr>
              <a:t>Желаю Вам здоровь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61645"/>
                </a:solidFill>
                <a:latin typeface="Arial Narrow"/>
              </a:rPr>
              <a:t>Благодарю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88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ы молодые с забубённой слав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вил я сам вас горькою отра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3IYCA4OXH2OCAPXZT8VCA0H8WA0CAQI278HCATGT1JRCAEW5DD7CARHJV8DCAESOU3ZCA2DGSF3CA6QCT8OCA6RMOCDCAU1XWRNCAU4AQS8CA2BKWV3CA2KU9P1CA7R7VMWCALFJLEQCAKPKY05CA0EXRC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1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359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придумал радость "горькой" зали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i33"/>
          <p:cNvPicPr/>
          <p:nvPr/>
        </p:nvPicPr>
        <p:blipFill>
          <a:blip r:embed="rId1"/>
          <a:stretch/>
        </p:blipFill>
        <p:spPr>
          <a:xfrm>
            <a:off x="468360" y="198900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biotech"/>
          <p:cNvPicPr/>
          <p:nvPr/>
        </p:nvPicPr>
        <p:blipFill>
          <a:blip r:embed="rId2"/>
          <a:stretch/>
        </p:blipFill>
        <p:spPr>
          <a:xfrm>
            <a:off x="4859280" y="1052640"/>
            <a:ext cx="3865680" cy="46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42920" y="213840"/>
            <a:ext cx="83599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то водку любит, сам себя губ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2"/>
          <p:cNvPicPr/>
          <p:nvPr/>
        </p:nvPicPr>
        <p:blipFill>
          <a:blip r:embed="rId1"/>
          <a:stretch/>
        </p:blipFill>
        <p:spPr>
          <a:xfrm>
            <a:off x="1619280" y="1268280"/>
            <a:ext cx="6192720" cy="533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07228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но спустит на д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B0TCAFVUD0ACA0KVJPHCAKCJN5WCAPBIQL1CAY5WL04CADOIWSXCA0MGJNACAW2JQSFCAREREMPCADJCL3VCAB0EO98CA6PSEH1CAHB5SJ7CACE0ABLCADLT2YLCAEWXE6QCAI89NPJCAYE2IFVCAU9YITW"/>
          <p:cNvPicPr/>
          <p:nvPr/>
        </p:nvPicPr>
        <p:blipFill>
          <a:blip r:embed="rId1"/>
          <a:stretch/>
        </p:blipFill>
        <p:spPr>
          <a:xfrm>
            <a:off x="1692360" y="1125360"/>
            <a:ext cx="6192720" cy="548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к г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1928880" y="1214280"/>
            <a:ext cx="5379840" cy="528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г к здор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15_шаг к здоровью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3:56:41Z</dcterms:created>
  <dc:creator>Admin</dc:creator>
  <dc:description/>
  <dc:language>en-US</dc:language>
  <cp:lastModifiedBy>PVV</cp:lastModifiedBy>
  <dcterms:modified xsi:type="dcterms:W3CDTF">2010-11-29T05:18:21Z</dcterms:modified>
  <cp:revision>30</cp:revision>
  <dc:subject/>
  <dc:title>Слайд 1</dc:title>
</cp:coreProperties>
</file>