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5A3-26B4-48C2-B493-679004B6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9C0-B04C-422D-BF81-C88F2DE1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DA2-608A-41FF-AAE0-B98D9C41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855-1FF0-43A0-9E79-45D51425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E6E8-5664-438D-88E9-6AF64B4A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2569-02C9-4067-BA7F-33AE655C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2A5D-07F1-45BF-84A5-2B940A45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DA3B-C9BA-43CB-BDC5-5E6D61C8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C04F-4EAB-4CC1-AD2D-5F90B55C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CFDE-F1C0-4A15-A94D-A6770D02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7E39-AAB2-4440-AA56-A57AE914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8A1-0CA4-484A-9FFA-AC7E29CB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EABD-CC5F-42D8-927F-37657791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59C8-1B8E-4810-948B-151CD081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2A11-7A48-4639-A512-3A2184C7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C765-73F2-48F1-8C41-A1F1EC97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CFD4-5EF2-487A-9E3E-D576EB89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88D26-AC35-459E-8583-5762364D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D409C-3C8C-4DA9-8CA0-FD961F55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20FB8-11DF-4765-AD86-A886C4DF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11255-9E9F-43C8-99A2-1AAE06FF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42D67-D0A3-46ED-9A6D-8F68F3B3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8A0-C467-4880-AEDC-8CD60F2A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E211C-712F-4B62-AF1F-9E0E5893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1FAC8-0228-4F6E-8F28-A22C22BC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4F071-3915-40E8-AC0A-95193513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9F1B2-6D87-4EE7-A0A7-C5DC194B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31BDA-E32C-4759-8A72-5DBB834B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74DF0-66E6-4415-86A0-68F4E9B5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520FB-EE0F-42BB-9246-EA6FE005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9ABA7-34FD-4450-9614-12EB11B3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79E6F-F303-4839-BBAD-CA42D7AE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3423A-A3EE-48CE-B53A-5440663E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4C0-B010-4AE4-8B19-F619A442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C8692-0493-4830-9693-D0CDBE61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8986D-BF41-4B95-BFAE-1F5A86AC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9183-189B-4CAA-9E49-1B701EFB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CF0D4-F96E-4718-B466-3EC42111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870F0-5485-49C9-B3D8-3E98835D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082DD-D920-439A-895D-6D8F9D8B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0920A-0B42-408E-9750-50F76173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C8F91-2180-4E96-9853-19F52F15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8CE5-6C5F-4BC4-BF55-B3ECD93D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71ED4E-1889-48AD-AE69-FE944433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D5E-B7FD-4C66-B3CB-587DA30F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D7142-A25B-4FC8-95A1-5CCC467D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A2D23-40F9-4BA9-9374-97D50671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11DF4-C934-466E-8BD4-253DEB5C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39AC35-389C-4E3A-8E1B-FD577C02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42D5B2-64BE-4562-B8EE-7E7829F0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9E4C2-8E7E-4812-9841-5B5CAA84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3D903-5497-4F90-866B-A7A49A2B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2A7E87-EE38-41DA-B6E8-64574A07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47FE0-EF1C-4CE9-B7FC-265B19A6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D47E2-A1CE-486C-A957-B461FEED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CD7-AF09-4FE5-A399-623E8CBF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E83B78-3289-4C13-A8FE-A3400DD5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497D42-0ECA-43CF-B2FC-62C00340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BE2072-CBF2-4281-869E-EEA8C3CB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99113-F51C-4A53-8A35-8416444F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CBD8F6-7984-48DE-8CA5-EBBADC1B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85405C-9271-40B7-A86C-193119CE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383F9-052C-42DC-AE98-1B5DB758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3A7DAB-C537-465E-90A2-2CBB128F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EB572-2A55-49D4-9350-39E64F8C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5BB65-212C-47CB-A10C-62414FBD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65B-32A0-4AC7-88C0-4E18FDFC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984D1-639A-4365-99B6-19816C4B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4CB958-91DB-442C-B12A-4644796C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783C50-684A-41D5-B0FB-BFA04367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377F4-2DA6-4212-A66B-70F1DC22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53A081-6CEF-4903-8637-B2519CF5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4B3F1-256B-432A-BBCC-908D5775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85B11F-5501-4354-B0F6-54A51FE6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11B59-CBCA-466F-904B-81C2E687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D096F-34D1-4ADA-9A58-89AB487F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D5000-1FB0-4CED-8752-BC1C5BA7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335-81A6-4DB5-B890-6B205297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309DAC-42AA-42C5-9C85-48C6EB43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397709-6ACA-4789-B650-B17B4489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1538C-B4E5-4005-9268-9B76F274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A225B2-2127-43C6-920B-3A0994A2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77A434-3B35-41A6-A77C-21493C3D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C1B-FA7A-4FF3-BD01-1025E517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AA6F-3040-441A-AE51-7075BCA7F40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FA9A-88E7-4DBC-9751-878E3137DD2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1039-A081-4F48-BCE6-4532217568C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CEED-3C3F-42EC-90ED-93C9EF6D114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AE30-C426-4889-A9F1-5444F64FE02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CC9D-D617-4C8D-818A-3E913B5A59A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4407-5017-468A-9446-0FDBB92A15B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92000" y="260280"/>
            <a:ext cx="6622920" cy="17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ОЦЕНКА УРОВНЯ  АНТИАЛКОГОЛЬНОГО ПРОСВЕЩЕНИЯ ОБУЧАЮЩИХСЯ 5-8 КЛ. ОУ РАЙОНА</a:t>
            </a:r>
            <a:br>
              <a:rPr sz="2200"/>
            </a:br>
            <a:endParaRPr b="0" lang="en-US" sz="2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2000160"/>
            <a:ext cx="62434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Цель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вести оценку антиалкогольного просвещения обучающихся 5-8 классов ОУ райо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: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Оценить рисковые формы поведения подростков  для организации ранней антиалкогольной профилактической работы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вести мониторинг возрастных изменений антиалкогольных знаний подростков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Проанализировать и представить результаты исследования на районном семинаре </a:t>
            </a:r>
            <a:r>
              <a:rPr b="1" lang="ru-RU" sz="1600" spc="-1" strike="noStrike">
                <a:solidFill>
                  <a:srgbClr val="002060"/>
                </a:solidFill>
                <a:latin typeface="Century Schoolbook"/>
              </a:rPr>
              <a:t>«Организация ранней антинаркотической и антиалкогольной профилактики в ОУ района профилактике»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(26.11.2010 в МИМЦ)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778644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РГАНИЗАЦИИ ИССЛЕДОВАНИЯ РАЗРАБОТАНА АНКЕТА (13 ВОПРОСОВ), В КОТОРОЙ ПРЕДУСМОТРЕНЫ КОНТРОЛЬНЫЕ ВОПРОСЫ, КАСАЮЩИЕСЯ ФАКТОРОВ РИСКА ВОЗНИКНОВЕНИЯ  ПРЕДРАСПОЛОЖЕННОСТИ АЛКОГОЛЬНОЙ ЗАВИСИМОСТИ В ПОДРОСТКОВОЙ СРЕДЕ. В ИССЛЕДОВАНИИ ПРИНЯЛО УЧАСТ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ОБРАЗОВАТЕЛЬНЫХ УЧРЕЖД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ГО ОПРОШЕ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9 ШКОЛЬНИКОВ 5-8 КЛАССОВ. </a:t>
            </a:r>
            <a:endParaRPr b="0" lang="en-US" sz="18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54" name="Диаграмма 3" descr=""/>
          <p:cNvPicPr/>
          <p:nvPr/>
        </p:nvPicPr>
        <p:blipFill>
          <a:blip r:embed="rId1"/>
          <a:stretch/>
        </p:blipFill>
        <p:spPr>
          <a:xfrm>
            <a:off x="0" y="0"/>
            <a:ext cx="8723160" cy="65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14240" y="4214520"/>
            <a:ext cx="75009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нализ результатов исследования показывает, что в группе риска </a:t>
            </a:r>
            <a:r>
              <a:rPr b="1" lang="ru-RU" sz="1900" spc="-1" strike="noStrike">
                <a:solidFill>
                  <a:srgbClr val="002060"/>
                </a:solidFill>
                <a:latin typeface="Century Schoolbook"/>
              </a:rPr>
              <a:t>(склонность к употреблению алкоголя, сниженный антиалкогольные знания)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находится 44 (4,1%) подростка </a:t>
            </a:r>
            <a:r>
              <a:rPr b="1" lang="ru-RU" sz="1900" spc="-1" strike="noStrike">
                <a:solidFill>
                  <a:srgbClr val="b0105c"/>
                </a:solidFill>
                <a:latin typeface="Century Schoolbook"/>
              </a:rPr>
              <a:t>(в том числе обобщенные  результаты анкет по 5-8 классам, представленные школами)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. В большей мере качество сниженного антиалкогольного просвещения  свойственно для ребят 5-6 класса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Диаграмма 3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82965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714240" y="4071960"/>
            <a:ext cx="746784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ровень антиалкогольного просвещения в динамике возрастных изменений  с 5 по 8 класс  говорит  в целом о положительной динамике, снижении количества ребят, которые имеют поверхностные знания о вреде алкоголя на организм подростка.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Диаграмма 3" descr=""/>
          <p:cNvPicPr/>
          <p:nvPr/>
        </p:nvPicPr>
        <p:blipFill>
          <a:blip r:embed="rId1"/>
          <a:stretch/>
        </p:blipFill>
        <p:spPr>
          <a:xfrm>
            <a:off x="781200" y="353880"/>
            <a:ext cx="7296120" cy="3584880"/>
          </a:xfrm>
          <a:prstGeom prst="rect">
            <a:avLst/>
          </a:prstGeom>
          <a:ln w="0">
            <a:noFill/>
          </a:ln>
        </p:spPr>
      </p:pic>
      <p:grpSp>
        <p:nvGrpSpPr>
          <p:cNvPr id="359" name="TextBox 4"/>
          <p:cNvGrpSpPr/>
          <p:nvPr/>
        </p:nvGrpSpPr>
        <p:grpSpPr>
          <a:xfrm>
            <a:off x="1238400" y="3565440"/>
            <a:ext cx="1322280" cy="530280"/>
            <a:chOff x="1238400" y="3565440"/>
            <a:chExt cx="1322280" cy="530280"/>
          </a:xfrm>
        </p:grpSpPr>
        <p:pic>
          <p:nvPicPr>
            <p:cNvPr id="360" name="TextBox 4" descr=""/>
            <p:cNvPicPr/>
            <p:nvPr/>
          </p:nvPicPr>
          <p:blipFill>
            <a:blip r:embed="rId2"/>
            <a:stretch/>
          </p:blipFill>
          <p:spPr>
            <a:xfrm>
              <a:off x="1238400" y="3565440"/>
              <a:ext cx="13222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357200" y="3643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entury Schoolbook"/>
                </a:rPr>
                <a:t>5 кла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TextBox 5"/>
          <p:cNvGrpSpPr/>
          <p:nvPr/>
        </p:nvGrpSpPr>
        <p:grpSpPr>
          <a:xfrm>
            <a:off x="2882880" y="3565440"/>
            <a:ext cx="1324080" cy="530280"/>
            <a:chOff x="2882880" y="3565440"/>
            <a:chExt cx="1324080" cy="530280"/>
          </a:xfrm>
        </p:grpSpPr>
        <p:pic>
          <p:nvPicPr>
            <p:cNvPr id="363" name="TextBox 5" descr=""/>
            <p:cNvPicPr/>
            <p:nvPr/>
          </p:nvPicPr>
          <p:blipFill>
            <a:blip r:embed="rId3"/>
            <a:stretch/>
          </p:blipFill>
          <p:spPr>
            <a:xfrm>
              <a:off x="2882880" y="3565440"/>
              <a:ext cx="13240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000240" y="3643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entury Schoolbook"/>
                </a:rPr>
                <a:t>6 кла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TextBox 6"/>
          <p:cNvGrpSpPr/>
          <p:nvPr/>
        </p:nvGrpSpPr>
        <p:grpSpPr>
          <a:xfrm>
            <a:off x="4522680" y="3541680"/>
            <a:ext cx="1324080" cy="530280"/>
            <a:chOff x="4522680" y="3541680"/>
            <a:chExt cx="1324080" cy="530280"/>
          </a:xfrm>
        </p:grpSpPr>
        <p:pic>
          <p:nvPicPr>
            <p:cNvPr id="366" name="TextBox 6" descr=""/>
            <p:cNvPicPr/>
            <p:nvPr/>
          </p:nvPicPr>
          <p:blipFill>
            <a:blip r:embed="rId4"/>
            <a:stretch/>
          </p:blipFill>
          <p:spPr>
            <a:xfrm>
              <a:off x="4522680" y="3541680"/>
              <a:ext cx="13240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643280" y="3616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entury Schoolbook"/>
                </a:rPr>
                <a:t>7 кла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TextBox 7"/>
          <p:cNvGrpSpPr/>
          <p:nvPr/>
        </p:nvGrpSpPr>
        <p:grpSpPr>
          <a:xfrm>
            <a:off x="6168960" y="3541680"/>
            <a:ext cx="1322280" cy="530280"/>
            <a:chOff x="6168960" y="3541680"/>
            <a:chExt cx="1322280" cy="530280"/>
          </a:xfrm>
        </p:grpSpPr>
        <p:pic>
          <p:nvPicPr>
            <p:cNvPr id="369" name="TextBox 7" descr=""/>
            <p:cNvPicPr/>
            <p:nvPr/>
          </p:nvPicPr>
          <p:blipFill>
            <a:blip r:embed="rId5"/>
            <a:stretch/>
          </p:blipFill>
          <p:spPr>
            <a:xfrm>
              <a:off x="6168960" y="3541680"/>
              <a:ext cx="13222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6286680" y="3616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entury Schoolbook"/>
                </a:rPr>
                <a:t>8 кла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6840" y="4357800"/>
            <a:ext cx="74674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исследовании было предусмотрены 3 контрольных вопроса, которые оценивались отдельно. Таким образом, 667 учеников 5-8 классов ответили на эти вопросы ошибочно. Давайте рассмотрим эти результаты подробне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Диаграмма 3" descr=""/>
          <p:cNvPicPr/>
          <p:nvPr/>
        </p:nvPicPr>
        <p:blipFill>
          <a:blip r:embed="rId1"/>
          <a:stretch/>
        </p:blipFill>
        <p:spPr>
          <a:xfrm>
            <a:off x="0" y="0"/>
            <a:ext cx="815652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99680" y="3857760"/>
            <a:ext cx="74674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ВЫВОДЫ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есмотря на то, что общая картина антиалкогольного просвещения благоприятная, ошибочные ответы 667 (63%) подростков на контрольные вопросы говорят о скрытых факторах предрасположенности к пивному алкоголизму, неосознанию первых признаков возникновения алкогольной зависимости, свидетельствуют об узком представлении социального влияния алкоголя на организм подростк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Диаграмма 3" descr=""/>
          <p:cNvPicPr/>
          <p:nvPr/>
        </p:nvPicPr>
        <p:blipFill>
          <a:blip r:embed="rId1"/>
          <a:stretch/>
        </p:blipFill>
        <p:spPr>
          <a:xfrm>
            <a:off x="566640" y="281160"/>
            <a:ext cx="701064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4e5b6f"/>
                </a:solidFill>
                <a:uFillTx/>
                <a:latin typeface="Century Schoolbook"/>
              </a:rPr>
              <a:t>РЕКОМЕНДАЦИИ: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71680" y="1285920"/>
            <a:ext cx="7929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недрять систему мониторинга проблемы, которая позволит увидеть динамику изменений антиалкогольного просвещения подростков, правильно оценить эффективность профилактической работы в учрежден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вести в период с 6 по 10 декабря неделю наркопрофилактики среди школьников 5-8 классов всех ОУ района (привлечь к разработке мероприятий обучающихся 9-11 классов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общать положительный опыт по наркопрофилактике на сайте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www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vah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psycholog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narod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ru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водить профилактическую работу с привлечением специалистов: медицинских работников, нарколога, сотрудников ПДН, отдела профилактики МБУ «КЦСОН», КДН и ЗП, СМИ и т.д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ыразить благодарность  ОУ (психологам, социальным педагогам…), которые согласились принять участие в исследовании и представили результаты анкетировани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b3d"/>
                </a:solidFill>
                <a:latin typeface="Century Schoolbook"/>
              </a:rPr>
              <a:t>СПИСОК 16 ШКОЛ, ПРИНЯВШИХ УЧАСТИЕ В АНКЕТИРОВАНИИ ШКОЛЬНИКОВ 5-8 КЛАССОВ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rcRect l="33876" t="27264" r="45104" b="37559"/>
          <a:stretch/>
        </p:blipFill>
        <p:spPr>
          <a:xfrm>
            <a:off x="714240" y="1143000"/>
            <a:ext cx="40039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1-26T03:55:35Z</dcterms:modified>
  <cp:revision>31</cp:revision>
  <dc:subject/>
  <dc:title>Оценка уровня  антиалкогольного просвещения обучающихся 5-8 кл. ОУ района </dc:title>
</cp:coreProperties>
</file>